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151E-0745-421B-B712-79871EFF3E40}" type="slidenum"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DE51-A5C8-475A-A787-3C4ABF412575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2128-4DBE-42E8-B3BD-E8137C554F46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46B5-FD9B-488A-8383-DAF2B1DA3CC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E8A9-88D6-4AAA-B844-F37DBB08B86E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FA12-54EC-4C92-8E13-F116EEF62DC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B4E9-BF03-47A0-9880-D63BB7D72567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1907-59C9-4CED-AFF9-23285BE9528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344-0BEA-4632-8641-E7149DD0539F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1EC0-973B-4D06-AE7C-A58EA101670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725-0116-4421-BCE0-1A94A9971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7C3C-1F6E-4B4C-A50E-F0B96B8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7C364A-C018-4DA8-81CC-FFED2C2E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3D751-0F1E-40C7-BAF6-9F766AF5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A0A4BE-174F-429D-A578-67DD723A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56037-5399-40A1-82A4-2D7CD5A7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88344-C6BB-456D-85C8-22D72D34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B8555-F2FB-43D3-A1F9-B61AB2D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CE17D-4DB3-47DD-B3A8-D0E946DB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D73C9-3324-4372-97B2-3547C7CF1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67AE5-F412-48DA-8ABF-0A6C59AE4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4F5C44-EFB1-40A3-AC58-D8931993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24CF-1EF0-4423-990A-D32573DD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98AD01-B9F8-449A-BE2D-84CD8A09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E0E1C-AF35-44EF-B610-5299928A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DB6E0-DAB6-4B87-BC1D-9475B39A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CFBF4-5DAB-4296-8744-39389B85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473C7-2564-42D4-9060-91937513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DC2D3-D06B-4C02-8831-BC926662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1BE091-A928-45CA-BBDA-383A8F7B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1B116-EC40-4CC8-9EF7-3A3CCC7B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E898AE-2634-4879-B07F-A6DAD7E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4F94C-0A80-4F7F-9BEE-ED31C934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AB7-BF09-4624-A516-2E83936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6639A-C3FC-42E4-9808-B1CF8CCB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05F72-26A1-449D-B220-4223269D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FC020-7396-421C-AB20-5621C164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CCD84-3DB6-4FF6-9F47-C4B9E263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0B502-8A93-488D-A669-51DB22C8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6E79A-9BC4-4912-9E88-AE06469A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3BB06-A532-47F2-BBAC-0CE20FBE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3A5F7-5ABB-4ACF-8BD0-F96B87C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43BBD2-60BB-4181-8F54-C1FDE951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EF5B3-C86C-4A29-BF18-B6A2B4A9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72F1-5E9A-42A3-AA10-01CE46A0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CBAE7-0A66-46C5-949E-75FEBD3C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20109-5023-4644-91F5-624FFD2C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84F5D-D42C-4609-9D5B-DCB22062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219170-EEDE-4BC3-A69E-1B1C598F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AAD84-B7E4-43EA-A5C1-03B2C6A1C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D8368-4FC5-4684-8696-ED2BABE2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F8F36-D5A7-4B17-8D81-82E03FD0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CF517-E464-4F84-8AC6-2FE2808E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675C5-38AE-4008-94D9-2A1B47F0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DBEB4-A39E-4ADB-BC57-4B9086B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C4E-45B5-45DF-B707-4D7AC894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43A00-396B-46F5-B4F2-813ACA24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9F1C3-B6C0-4EF6-8F68-DC32634A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A42E2-DE59-49DF-8900-3943BF04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87DC9-30BC-47FF-9C78-EEC7063C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E23D34-B342-4F1E-8505-57493F2C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AEA2-CB4C-4F9F-A87F-391C0CC1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212A-7FC5-4A97-925C-A2E7B4202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3C17-509D-4275-A723-3F55D9B6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305-D26E-495E-B57C-5BB3558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3A33-53C8-4F68-99BD-D6D9DD6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DF5-D1E2-4D67-8B1C-A6AD4DF8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E2D4-5D27-4300-A975-7A0D869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BB3C-FEF9-4133-BC83-06DE29F9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1394-DB23-4673-91A2-D4DD90D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BCCD-58AE-4E4E-B1FB-27E76DDD8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71EBD-6ABD-41C7-A7FB-EB01D91B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97586-ECB1-4DE2-8E46-E0198217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F932D-D7B1-4E7B-A0B0-0D566AFC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3BA7-ADDA-43E9-99C3-A1656C73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AF50-A2C0-4A5F-A477-886F645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B36F8-7C35-450A-B2CF-C50EAAC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8642-FF71-4044-81DF-CDA0737D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45B8-DCFF-4A08-B9BD-2D82491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A5BC-DFBD-4546-B029-667456F4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4E7C8-C55E-407A-850C-60277FB6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4F79E-C985-4C5E-B23F-0C3A9E1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D8AF-AA6E-457E-96DB-ED2586F0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0C51-89B1-4E43-BF89-2B8FD1C81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888B-09AF-4A9E-B1FA-DAB9B36C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37D80-2EDA-4864-84AC-5E7D8246F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DC60D-1B55-4FBB-BD2D-F6A06B7F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E2F95-D005-4B0E-8C82-A22070E5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B23-260A-470E-BFA1-B4F8A9C7D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BF745-F358-4196-A2D7-72E3AD6C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4126-A2CC-4395-A00C-0CA65CD9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C1A06-2A0B-4A2D-9610-19FDFDC3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10D8E-EBFC-4C2E-8BE2-806110CC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8719-7B6D-448D-AE0D-6A5FF95D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C7A5F-23A6-49D1-9D03-CA7DF2D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262E-7284-4A27-8BF9-9E6DB69E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8F78-B671-40D9-BE51-C3BA0AE0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AFB23-CDD5-4D14-A889-16B9C086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A1DA-7C80-4DA6-A99C-7F7FED71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E6AF-D42B-4B87-B7A4-52A6CB6B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3E9E4-07AB-44A9-B362-C7D8F436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09518-26E5-4828-ADBC-4E343561B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2FD3D-1B38-49A8-864A-C27A1CE64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EBF0D-026A-4D81-8F6A-F4A6A9B4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373CA-81DF-440D-BF4B-34EB2778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172F6-24EB-434D-983F-CC8BD332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4A87-BDD2-4064-B9D8-ECA5DE5D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0057-4ED3-4887-9340-7DF1FCD8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4BDEA-93F3-4551-9D14-3F0B2A4D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40ABB-37B5-4E45-8AAB-57B7A2B9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39C-DBC7-4A88-8BC8-04B53F99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47DEE-2186-4509-865C-7DCAB44BE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DED50-9D2A-4627-A106-F639AD0E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DD23F-37E0-4997-9F48-FCF4A5EB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6B0DF-8804-4830-8D23-FC444923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2B273-CC67-4392-A9A3-7991F9443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65640-7B3A-4077-A483-3D3FF98F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3B2B-E159-4CB3-BC92-96766FDD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948500-7469-4AD8-BF56-261D004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D2302-4F9B-42EC-8389-E5D58C5E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40A90-1C9A-4A41-ABB9-4976E272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BB7-2DBE-4CC1-87BA-54934C2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AAF1CD-9922-4C68-864E-BB4B8103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F20DC-9F46-4D47-BA5C-EA56C81B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9DD7-CE40-40B2-AF62-4580642C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CB0A6-596B-4DA9-915A-9B9E427E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8313A-CF7E-4ECE-81C5-2331CA52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A9F90-EB52-4F4C-960E-A9A0096F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A0586-C67D-4E16-B2AC-18E0E322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3405-7B4D-4C57-9BEA-A50BBC10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06D60-9279-46E8-8374-FE8EF081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4B52C-3CAA-4BD1-946F-0151DA60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5AF0-AE16-4498-AA50-94A4EEB1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812E5-DC86-46AA-9655-3197AA09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CDA91-67F4-4A09-8F42-9D5707F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839B7-6DDB-4F48-A697-2000792D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0480-B0BE-4DB1-B832-B5694C4C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52DFE-6919-4A7F-9CEC-3661D699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8E1F-D58E-44C0-A925-66D4FC7EA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AD41CA-8786-4ECC-9971-406BCFD6D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E5813-EE41-495D-B9EC-6D77B44B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641BEF-7790-43D6-AB32-112A9CFE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EE906-629F-4ACA-91C8-1C8026C41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5E71-2B79-4C3E-8D05-A88F264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26D871-3378-42C0-83E0-44C68732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EA19A-0CA5-4FF0-81BB-053A8E87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ACE69-00B4-4808-9CAA-1A626FC6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6B080-5195-4787-990F-F11B4E5E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0418E-2275-49CF-8CC1-33205D0C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B2A78-7D5E-4E48-B4AA-2AF08A6F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7EE5A-EDA4-46CF-AE68-76F1AEBC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4F442-B656-4EEE-AB31-5D52E997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77D14-B455-45D6-AC5B-D70D10C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3EEB0-60D0-426E-99D5-4E4E8249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C2ED-8A30-4F59-8C12-DCD0322DFAF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0580-5516-40ED-925F-C8127D38B61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8013-DBAA-4340-81FA-CF6EB58FF68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BD3E-45B6-4C27-B2D6-06802E961FD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578-0E64-45B3-AA05-7A7C1EF83C2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7973-A0B2-4A17-91D9-AE975360A54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D2AA-29E6-4F6D-A862-F72E81E1B423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1F96-5442-4FF8-A28A-D77D8877588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ack_on_white_world_map.gif"/>
          <p:cNvPicPr/>
          <p:nvPr/>
        </p:nvPicPr>
        <p:blipFill>
          <a:blip r:embed="rId2"/>
          <a:stretch/>
        </p:blipFill>
        <p:spPr>
          <a:xfrm>
            <a:off x="4143240" y="843120"/>
            <a:ext cx="4429440" cy="3085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643200"/>
            <a:ext cx="9144000" cy="3214800"/>
          </a:xfrm>
          <a:prstGeom prst="rect">
            <a:avLst/>
          </a:prstGeom>
          <a:gradFill rotWithShape="0">
            <a:gsLst>
              <a:gs pos="0">
                <a:srgbClr val="344974"/>
              </a:gs>
              <a:gs pos="100000">
                <a:srgbClr val="2638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785880"/>
            <a:ext cx="9144000" cy="28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12840" y="712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rb.png"/>
          <p:cNvPicPr/>
          <p:nvPr/>
        </p:nvPicPr>
        <p:blipFill>
          <a:blip r:embed="rId3"/>
          <a:stretch/>
        </p:blipFill>
        <p:spPr>
          <a:xfrm>
            <a:off x="4376880" y="103320"/>
            <a:ext cx="46980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5216760" y="8424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57192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3500280"/>
            <a:ext cx="9144000" cy="214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znakposgrad.png"/>
          <p:cNvPicPr/>
          <p:nvPr/>
        </p:nvPicPr>
        <p:blipFill>
          <a:blip r:embed="rId4"/>
          <a:stretch/>
        </p:blipFill>
        <p:spPr>
          <a:xfrm>
            <a:off x="0" y="2560680"/>
            <a:ext cx="3067200" cy="229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3D1-AA3A-41CB-A709-3BB582BF2C85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8B62-7FBB-4186-ACE4-2D760ACD73B8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00040" y="0"/>
            <a:ext cx="35712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760" y="0"/>
            <a:ext cx="712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E702-29FF-4683-89B6-EE251FFB8A62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DE7E-2633-412D-BC9B-103B20E6ED4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1554-F628-40D7-84FF-A6F9314E1C9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F8808-0612-4014-972D-37B9EEA6268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B2B8-9F2C-460C-B3A5-120663A86948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1B8B-519C-4412-A2C1-90BE5DFE1F6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6107-E933-4425-ACCE-455DAA59521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E384-C660-4364-A6BA-57E51855BD1F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FAEB-6046-44D6-8866-005BCFF96496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E9D-9C99-4641-9662-31CC68ABB61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98C9-495D-4BA0-A577-4529947C9B8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6CA6-A16F-4A53-A4FF-CC4FCB76AFC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4BD4-30C5-4B33-B667-B192CFDF945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71FF-CF64-4BD4-8F77-F6F1574D617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ubina.ligata@bhas.b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bs-BA" sz="4400" spc="-1" strike="noStrike">
                <a:solidFill>
                  <a:srgbClr val="595959"/>
                </a:solidFill>
                <a:latin typeface="Arabic Typesetting"/>
                <a:ea typeface="Arabic Typesetting"/>
              </a:rPr>
              <a:t>Contribution to Geospatial Analysis of Household Survey Data in Bosnia and Herzegovin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0920" y="5516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Workshop on Data Integration: Realising the Potential of Statistical and Geo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Belgrad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Serb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233440" y="3714840"/>
            <a:ext cx="64818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din Šabanović, 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ector for Statistical Methodology, Standards, Planning, Quality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gency for Statistics of Bosnia and Herzeg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Calibri"/>
              </a:rPr>
              <a:t>User`s needs for socio-economic indicators in Bi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 one of these household-based surve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provide indicators at levels of data disaggregation, which are lower than Bosnian entities, because of limited sample si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SMS 2011: 5,002 HHs; LSMS 2004: 3000 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 c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ca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are user`s needs for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ocio-economic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lower levels of geospatial and administrative organization of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P projects related to the regional disparity assessment in Bosnia and Herzegovina in 2010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02B4-3E04-4AF9-999F-27DD62EC1A0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1)</a:t>
            </a:r>
            <a:br>
              <a:rPr sz="24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764640"/>
            <a:ext cx="8281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poverty indicators are selected from 2015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household 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individu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ee main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mployment indicators were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cted from 2015 L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dicators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sented at level of 17 Bosnian cantons, regions o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cGiS Ver. 10.0 and QGIS are used for geospatial dis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923D-4C94-43AC-A5F3-7FFC96C290E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0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2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020600"/>
            <a:ext cx="84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6010-EE9F-4491-83CE-BA312C9376A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116000" y="1020600"/>
            <a:ext cx="7416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3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11280" y="691920"/>
            <a:ext cx="817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527E-703E-4634-9CC6-4A4F5843F5F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611280" y="115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</a:t>
            </a:r>
            <a:br>
              <a:rPr sz="2000"/>
            </a:b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066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escription: Inline image"/>
          <p:cNvPicPr/>
          <p:nvPr/>
        </p:nvPicPr>
        <p:blipFill>
          <a:blip r:embed="rId1"/>
          <a:stretch/>
        </p:blipFill>
        <p:spPr>
          <a:xfrm>
            <a:off x="900000" y="981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6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36480" y="549360"/>
            <a:ext cx="8820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431640" y="685800"/>
            <a:ext cx="87854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8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31640" y="701640"/>
            <a:ext cx="8785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4000" y="531720"/>
            <a:ext cx="8280360" cy="60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aper opened a question of the production of socio-economic indicators at sub-entity level in B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nceasing user`s need for subnational and sub-entity statistical data on living standards, poverty and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imitation of household surveys for providing of such kind of disaggregated statist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s for sophisticated statistical techniques, which can combine survey data with those coming from population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re-condition for the use of such techniques is that survey samples were selected from the census sampling frame, which is still not done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w sampling frame in following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work of statistician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s for geospatial presentations of statistical data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Arial"/>
              </a:rPr>
              <a:t>Conclusions and future ste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1" lang="bs-BA" sz="3000" spc="-1" strike="noStrike">
                <a:solidFill>
                  <a:srgbClr val="000000"/>
                </a:solidFill>
                <a:latin typeface="Calibri"/>
                <a:ea typeface="Arial"/>
              </a:rPr>
              <a:t>ont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764640"/>
            <a:ext cx="8532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overty and employment in Bosnia and Herzegovina - Evidence from household surve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 and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3BA4-4D0B-4045-889D-2DD685FFF15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 for the attention</a:t>
            </a:r>
            <a:r>
              <a:rPr b="1" lang="bs-BA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Edin Šab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in.sabanovic@bhas.gov. b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C89D-3092-4691-93D6-11C0E6A47FA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still one of the most pervasive problems in the overall hum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Millions of people live in extreme poverty, i.e. with less than the international poverty line of US$1.90 a day or making just a little more than this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s 2030 treat this problem with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 1-No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multidimensional phenomenon and consists of various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C5EC-7C43-43CB-8768-DF2BC289232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Employment status is one of the most important components, because it most affects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The highest poverty rates in 2015 in BiH were among unable to work (38.5%) and unemployed persons (26.2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nemployed persons in EU-28 faced a particularly high risk of poverty or social exclusion (67.0 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1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28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st poverty assessment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Bosnia and Herzegovina w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de in 2001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nd 200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ving Standards Measurement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S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orld Bank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absolut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used as a monetary measure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produc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 Coun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Gini coeffici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rty Ga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Gini coefficient using OECD sc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ity of Poverty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Theil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v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fall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) Entropy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) S9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) S5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) S90/S50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A9C-E3E9-42B4-A71C-D7CECE0F610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2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poverty and inequality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 and mixed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isplacement statu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adults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s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E091-DD67-4BAB-9594-F34765B62123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3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0920" y="1125360"/>
            <a:ext cx="8218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ince 2004,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Household Budget Surve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HBS) was designed for measuring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uropean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relativ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of households by COICOP was used as a monetary measure of well-b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calcul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household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individual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S80/S20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 was conducted four times: 2004, 2007, 2011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DAE0-656C-4047-B4C1-D5D7A54DBD1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4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these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 and Brcko district BiH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household member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of household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094-318D-4784-91D8-B8620B0C28B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Employment in BiH - Evidence from LF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ull-sca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bor Force Surv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ducted in 2006 and it was launched as regul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nual cross-sectional household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ing basic labor force indicators in line with definitions of the International Labor Organization (IL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used indicators of the employment of Bosnian population from labor force surveys ar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above mentioned indicators were disaggregated by regions (Bosnian entities), 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, sex,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ducation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of respon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0C97-8F97-4B40-A250-015C2B1146D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3:10Z</dcterms:created>
  <dc:creator>xy</dc:creator>
  <dc:description/>
  <dc:language>en-US</dc:language>
  <cp:lastModifiedBy>Edin Sabanovic</cp:lastModifiedBy>
  <dcterms:modified xsi:type="dcterms:W3CDTF">2019-05-10T11:29:34Z</dcterms:modified>
  <cp:revision>295</cp:revision>
  <dc:subject/>
  <dc:title>Slide 1</dc:title>
</cp:coreProperties>
</file>