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F4C-50AD-4F97-9879-D085C83EFD05}" type="slidenum"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8EA6-F6B9-4C6B-9ED5-BF1A654A5F8B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F8F-D339-4175-8F76-CAB5F3439715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5372-A697-42EF-856B-1B1F6AEF8DD8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B2E1-9C3F-4BD7-BEB9-6A7199331B09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724-43BC-406D-8988-0589F227CBC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4AB-0020-4866-BCC3-F9504498DF8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A34B-0239-4B36-BFA3-FB63682D2314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596A-A912-4956-B19D-30B44314B4E1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EC5F-B3D2-4E03-AE0E-E672A630AD8E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F31-DB3D-4DB3-A8EF-FFBFC91F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E15-49CF-4503-86F1-B4E1B695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CEBFE-DF23-4364-830D-CDC6011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13E14-A802-4B81-9CE2-40D7744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19E07-0B32-4781-B805-E6BFC3FF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6BFB4-F695-4613-87D0-556F8AD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29068-0FD7-4AE1-9A91-0A4766F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6C2A8-69C1-48CD-80F0-5C7AE273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222E1-3777-4EC9-98FB-4BA1AA2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DA92A-8FCE-4B08-84BD-0B50D37D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89082-0CF8-49D9-BF1E-EF5E57C6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660A2-8381-418B-9A35-CB9BA438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44B-F756-4F3D-81FE-31D37DD7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6803C-3671-4F99-B59C-246CAD9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02C18-42D2-4B23-A240-6055189F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711E1-136C-4C92-9B76-0064385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D7A3F-9F37-470E-992D-3DE8BEB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B5F5E-2F33-4083-B6EC-66D0A8B0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B0DBF-5B38-4D15-91C1-11A1C4E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D9BA0-3D17-4114-B78F-8D8B26E4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FFE11-1A21-4E01-BC6E-329F8BB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5B730-603A-4302-85AA-04A02F7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D0577-423F-4DEC-93F5-36F83353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DB6-B81F-4C00-AD4C-A37912E7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BCA0E-FB48-4768-8BC6-68FA3689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E1E6-5708-4489-9AC1-98F1CBD2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93EBC-84EE-487C-BB64-9E838A8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0B9C8-6028-448C-B341-A9D9BB9C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4CE01-D1A4-4251-A709-EC4A3D59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C1A9D-CB69-4D0F-8E13-A4C3BDE7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20A09-0F94-4F31-BDDF-EDE45DF6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ADBA-512D-49B3-BD29-3CB6000D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D053F-D47B-4916-9FDB-A61A920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309F-3D7F-4028-B2B2-93C43A15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34D3-F150-4E31-9B3F-1F3381F1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43117-3259-4CD6-9DF8-83A19B66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CD17D-F6A9-4745-8F9F-D805864A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8F62C-80DB-4BBD-8026-6B7DD13A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0EA2C-899B-4C5E-9C15-9DF1F7BF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58841-8113-4AEE-B262-0D6E0B1B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3D5B1-07C1-44CB-A0A3-65A5AF8E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6012-0E39-4F27-B98B-D6F9AF5E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35ADB-9AD5-4189-B39B-3797CF7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70150-C27D-4F93-BE88-6FDE7FC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D8C3C-F00B-4529-B2B9-2F50180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A5D-1F15-4A47-918D-60AFBEF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8B737-4767-43AD-B43C-AE33EFC1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33C3E-F45D-4F6E-84D1-4E5EBCA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21916-133B-4A28-A319-D4C24815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60B51-515C-48CC-9ECB-EB2F1BE4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0317-80E7-43B0-826C-F3B21FC1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F8C2-2B9B-4CEB-A761-E307631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ADC0-9B5C-4B01-A599-A4150B53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31A7-6EE7-467C-A8B5-8B50EA1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AE6-20C0-4CF7-83DB-DDBD39C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BEC1-7DC0-4758-98F1-21D05F7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9BF-E317-419A-9E9B-69371E0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B2A4-A1F1-4E69-B2AA-CDD353D0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501F-66CC-4C9B-ADA4-3E47420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9C84-A425-42F9-B61A-4CBE0FCC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927B-27D8-455C-B043-C4D2B01C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EEE-0FB8-4513-8F8E-C9030781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4947-C655-45BB-B630-D9D3F883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6DFB-9306-414B-9FBA-5A41E412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F540-8CB7-48C0-A010-D35A195D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706D-74AA-4829-93A7-C73A374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1622-3669-4862-AD35-EDEF47E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378-C04B-4B6B-B50E-E9D1A6D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B3630-6950-477B-B00A-C654217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C7CD-1789-4FA5-85BF-7F777C7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A59B-6F70-4D66-9D3B-8852A5A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8846-F252-41C5-9B3A-8D7B0F6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EDFB-A0D9-4110-9393-58786D98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C894-E698-4352-A1B1-29ABA036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24D4-76C8-4A2A-8144-1E3E8EEC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48DA-4A60-4A20-8B10-BBDFB61C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BF5D-7E59-46A1-8630-F8AB86C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96C9-8AB6-46B9-9D37-F71FBD8F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9C8-D356-45A8-8E66-B03281BD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F2C0-FC0E-463C-801F-6325C18A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7220-53A7-45ED-AAF8-7C23E71D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2FF6-9608-46A1-BA9B-F802DD4B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1882E-1238-4437-AFB3-2BB55861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6A22-3679-4AAE-A86D-2B98C808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43D9-ADA6-4805-8647-9CC8C66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9BA9-9078-4C8E-80DE-07E20C84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9B01-0F86-42BC-AEA2-4CB7E5E4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0145-911B-4759-A61F-428B654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8E98-26B2-4EA6-BF39-AE9E84BC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991-1C1F-41CB-9CF0-754FCE8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AF48-82DE-4E52-B99C-E8DEAC94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6FB3-1E8D-4E79-B5E9-50E323B7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6591-78D6-4DBC-BD3E-E29D23F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5345-66CC-489D-BD7A-76A2267C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C12EF-5D57-49A6-8AFA-3943674B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BB55-0425-4F1D-A5FC-12D3FB9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214D1-34CF-4065-8EEA-7A08BCAA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B546-8430-4A2D-B89D-F16C72D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FF7D-0A2D-4A56-AB9A-E0C45E09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5DAFC-FB77-4658-A46A-386A38CA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D41-915C-4649-98FE-A334509C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80B69-3917-4596-9A16-33EA3BA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F46E9-7E5A-448D-A557-B82A669B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EC44-B5DB-4EB1-8E8E-038FE68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FFACC-FE8D-4C5A-BBE3-D8A95F21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0F66-BF38-4C9D-B61D-9435D9F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6AED1-0329-4705-BEEE-CDF1C1E2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A0F93-366D-4467-96C1-2D929C4F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A6F1D-12B4-43FE-ABB1-42688FC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E72A-F807-4899-999F-82551FA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60A54-8B33-4FCD-9F37-C46FA11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CA9-8603-41E1-B5BA-C098EE84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355CF-8990-43B1-B69D-CAA316D6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667D4-97A1-42FD-AB45-636AB054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2E69F-1123-4B8E-96E8-091EBE33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2568-2250-44AC-AA9F-0D962A53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8782-FA34-4E13-AB49-8BD340A9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822EA-512D-4948-A56A-B8487CD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2987-9EB9-4475-A004-6AAE9B5F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AED30-0393-4948-B742-B1F6691F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B359-4CEF-4FC5-ABDD-9F70D844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A799-4A79-47D5-89C4-3338B15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739-CB92-464D-9343-75BF6B8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549C-F0E3-4C10-A192-ABA6907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DBF5F-5673-4ABA-94DB-68F2C08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D54E-924F-41DD-BDB1-0281223C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42A42-3A9C-47A0-956A-890046E0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2B815-5DC8-4399-8BE3-6FE9614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C3D0-0A55-4AEF-B8F9-143B9D7F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DEAD-5935-44E5-AA14-8BAA861C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B6E96-AC13-4167-98A6-6D388606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62AC3-B7AD-4F48-91D8-5BAE4ACA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3C24-3457-4C1D-9FE3-6FA64D5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CD7-19F5-4DDE-A038-3C47034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5E91-91CD-4A8F-98D1-EE1B03D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DBFCB-881D-41ED-8F4F-F67C31E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126B7-0611-4135-8C20-FA5C5C3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F87A0-6BB4-4272-8406-DF5A1FE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7880-712C-4DF4-8C32-DEEC1E3D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7F627-F5ED-4ACF-8667-D30FBA04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B4E73-9DEF-4B98-8884-F20EAEF5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30645-7112-42C8-8504-D42E9B11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75EBC-6BB6-4978-BDF8-64081473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DBA1B-8920-49F8-8174-2E295B84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391-3D80-4AE3-BAF9-E54B18D1B1F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E2E-06A7-460E-B116-1ADA086CA6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9814-CE31-4172-88FF-2917437795AA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70CD-4B26-4CB5-8F95-509BE195FB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136E-B6CE-4D4D-B58B-D24F9D76AB7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3886-D34D-47F3-A854-348F1A11059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F61F-D2CA-485A-80EA-D789C2AE9EE6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8900-EABD-42AD-BB85-12C90583A7C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ack_on_white_world_map.gif"/>
          <p:cNvPicPr/>
          <p:nvPr/>
        </p:nvPicPr>
        <p:blipFill>
          <a:blip r:embed="rId2"/>
          <a:stretch/>
        </p:blipFill>
        <p:spPr>
          <a:xfrm>
            <a:off x="4143240" y="843120"/>
            <a:ext cx="4429440" cy="3085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643200"/>
            <a:ext cx="9144000" cy="3214800"/>
          </a:xfrm>
          <a:prstGeom prst="rect">
            <a:avLst/>
          </a:prstGeom>
          <a:gradFill rotWithShape="0">
            <a:gsLst>
              <a:gs pos="0">
                <a:srgbClr val="344974"/>
              </a:gs>
              <a:gs pos="100000">
                <a:srgbClr val="2638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785880"/>
            <a:ext cx="9144000" cy="28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12840" y="712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rb.png"/>
          <p:cNvPicPr/>
          <p:nvPr/>
        </p:nvPicPr>
        <p:blipFill>
          <a:blip r:embed="rId3"/>
          <a:stretch/>
        </p:blipFill>
        <p:spPr>
          <a:xfrm>
            <a:off x="4376880" y="103320"/>
            <a:ext cx="46980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5216760" y="8424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57192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3500280"/>
            <a:ext cx="9144000" cy="214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znakposgrad.png"/>
          <p:cNvPicPr/>
          <p:nvPr/>
        </p:nvPicPr>
        <p:blipFill>
          <a:blip r:embed="rId4"/>
          <a:stretch/>
        </p:blipFill>
        <p:spPr>
          <a:xfrm>
            <a:off x="0" y="2560680"/>
            <a:ext cx="3067200" cy="229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96BD-825D-40B9-81FD-EEE9FB3766DA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6E14-0545-43C2-B72F-75B9A6F4305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00040" y="0"/>
            <a:ext cx="35712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760" y="0"/>
            <a:ext cx="712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FEC2-477B-4F94-B539-DE594CC86F5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BC47-F8FB-47FF-9335-D0A58DCCCA1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90B-3BD7-4BD6-8AB3-98134B18DFB7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AA3A-8C71-4A6D-B926-7F40D91BF7E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E55-9FF0-43A5-AB52-D03FFC92835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EC7F-18B9-450A-9160-F3813C6F931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1F6-ECB3-4E2B-A608-70AE54A376E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9CD-8197-48F4-89EB-C3303630A97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104-890F-4A91-9A93-DEF0421746E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6B3-F9E5-410A-9B45-ED6E25C146B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3C77-69B6-4A2D-A3B1-A0E0BD991B4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1277-8B64-4DE1-A140-57F2A21ABE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EF9-F36F-47B3-BE0B-BC813045A93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5837-6AA2-4759-BF4B-15418A43C5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ubina.ligata@bhas.b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bs-BA" sz="4400" spc="-1" strike="noStrike">
                <a:solidFill>
                  <a:srgbClr val="595959"/>
                </a:solidFill>
                <a:latin typeface="Arabic Typesetting"/>
                <a:ea typeface="Arabic Typesetting"/>
              </a:rPr>
              <a:t>Contribution to Geospatial Analysis of Household Survey Data in Bosnia and Herzegovin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0920" y="5516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Workshop on Data Integration: Realising the Potential of Statistical and Geo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Belgrad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Serb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233440" y="3714840"/>
            <a:ext cx="64818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din Šabanović, 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ector for Statistical Methodology, Standards, Planning, Quality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gency for Statistics of Bosnia and Herzeg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Calibri"/>
              </a:rPr>
              <a:t>User`s needs for socio-economic indicators in Bi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 one of these household-based surve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provide indicators at levels of data disaggregation, which are lower than Bosnian entities, because of limited sample si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SMS 2011: 5,002 HHs; LSMS 2004: 3000 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 c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ca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are user`s needs for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ocio-economic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lower levels of geospatial and administrative organization of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P projects related to the regional disparity assessment in Bosnia and Herzegovina in 2010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A556-4BE6-4BBE-911F-D80B08D5CA5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1)</a:t>
            </a:r>
            <a:br>
              <a:rPr sz="24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764640"/>
            <a:ext cx="8281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poverty indicators are selected from 2015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household 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individu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ee main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mployment indicators were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cted from 2015 L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dicators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sented at level of 17 Bosnian cantons, regions o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cGiS Ver. 10.0 and QGIS are used for geospatial dis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B3E-04DA-4BCA-AB79-818008F0F60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0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2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020600"/>
            <a:ext cx="84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297-B857-4D10-A811-0A37ED72FD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116000" y="1020600"/>
            <a:ext cx="7416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3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11280" y="691920"/>
            <a:ext cx="817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4D88-A222-4ED1-8A3B-0A9733B039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611280" y="115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</a:t>
            </a:r>
            <a:br>
              <a:rPr sz="2000"/>
            </a:b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066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escription: Inline image"/>
          <p:cNvPicPr/>
          <p:nvPr/>
        </p:nvPicPr>
        <p:blipFill>
          <a:blip r:embed="rId1"/>
          <a:stretch/>
        </p:blipFill>
        <p:spPr>
          <a:xfrm>
            <a:off x="900000" y="981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6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36480" y="549360"/>
            <a:ext cx="8820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431640" y="685800"/>
            <a:ext cx="87854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8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31640" y="701640"/>
            <a:ext cx="8785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4000" y="531720"/>
            <a:ext cx="8280360" cy="60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aper opened a question of the production of socio-economic indicators at sub-entity level in B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nceasing user`s need for subnational and sub-entity statistical data on living standards, poverty and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imitation of household surveys for providing of such kind of disaggregated statist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s for sophisticated statistical techniques, which can combine survey data with those coming from population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re-condition for the use of such techniques is that survey samples were selected from the census sampling frame, which is still not done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w sampling frame in following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work of statistician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s for geospatial presentations of statistical data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Arial"/>
              </a:rPr>
              <a:t>Conclusions and future ste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1" lang="bs-BA" sz="3000" spc="-1" strike="noStrike">
                <a:solidFill>
                  <a:srgbClr val="000000"/>
                </a:solidFill>
                <a:latin typeface="Calibri"/>
                <a:ea typeface="Arial"/>
              </a:rPr>
              <a:t>ont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764640"/>
            <a:ext cx="8532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overty and employment in Bosnia and Herzegovina - Evidence from household surve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 and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AE4-A083-48AC-A66E-2EEC3848F7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 for the attention</a:t>
            </a:r>
            <a:r>
              <a:rPr b="1" lang="bs-BA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Edin Šab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in.sabanovic@bhas.gov. b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D908-3467-47D1-91B8-2BDA01771F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still one of the most pervasive problems in the overall hum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Millions of people live in extreme poverty, i.e. with less than the international poverty line of US$1.90 a day or making just a little more than this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s 2030 treat this problem with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 1-No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multidimensional phenomenon and consists of various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379C-0131-4296-A289-3F29E2E4CA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Employment status is one of the most important components, because it most affects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The highest poverty rates in 2015 in BiH were among unable to work (38.5%) and unemployed persons (26.2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nemployed persons in EU-28 faced a particularly high risk of poverty or social exclusion (67.0 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1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28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st poverty assessment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Bosnia and Herzegovina w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de in 2001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nd 200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ving Standards Measurement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S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orld Bank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absolut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used as a monetary measure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produc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 Coun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Gini coeffici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rty Ga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Gini coefficient using OECD sc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ity of Poverty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Theil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v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fall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) Entropy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) S9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) S5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) S90/S50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F891-F9F8-46B4-8ABA-367642B386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2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poverty and inequality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 and mixed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isplacement statu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adults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s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032-3F53-4BAE-95F9-B6464C98C34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3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0920" y="1125360"/>
            <a:ext cx="8218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ince 2004,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Household Budget Surve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HBS) was designed for measuring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uropean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relativ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of households by COICOP was used as a monetary measure of well-b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calcul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household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individual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S80/S20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 was conducted four times: 2004, 2007, 2011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E16-86D5-40DA-B694-0DD8CB5ACC5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4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these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 and Brcko district BiH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household member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of household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968E-0434-4770-A416-E39E6E3D64A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Employment in BiH - Evidence from LF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ull-sca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bor Force Surv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ducted in 2006 and it was launched as regul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nual cross-sectional household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ing basic labor force indicators in line with definitions of the International Labor Organization (IL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used indicators of the employment of Bosnian population from labor force surveys ar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above mentioned indicators were disaggregated by regions (Bosnian entities), 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, sex,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ducation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of respon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F4F9-EC87-4E3C-B51D-0C9FECBF62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3:10Z</dcterms:created>
  <dc:creator>xy</dc:creator>
  <dc:description/>
  <dc:language>en-US</dc:language>
  <cp:lastModifiedBy>Edin Sabanovic</cp:lastModifiedBy>
  <dcterms:modified xsi:type="dcterms:W3CDTF">2019-05-10T11:29:34Z</dcterms:modified>
  <cp:revision>295</cp:revision>
  <dc:subject/>
  <dc:title>Slide 1</dc:title>
</cp:coreProperties>
</file>