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37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ftr" idx="38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 type="sldNum" idx="39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s-B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079B-178A-4A56-82AC-DE0C83B5F176}" type="slidenum">
              <a:rPr b="0" lang="bs-B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E780-82E1-45B3-9B4A-BCA5F0EE3D25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DCF9-CB47-4A37-A4C5-C05FB716D8A8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C4C6-A01D-421B-A4D7-A94B966016E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4D9B-5685-41BB-BCE5-02BE4B0B9E12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463C-D4E1-464C-AD4B-7AD2E06248BC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5941-559A-430B-8288-DEAD57D30D40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2774-452C-4C94-ADDC-2E7320BAB329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s-B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C5C-921B-454F-B337-2037053C0459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C27F-5414-44C8-9CB0-C51ACEFBFC0D}" type="slidenum">
              <a:rPr b="0" lang="bs-B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04E2-3D20-4E09-A815-61747ACF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990D-DD64-495E-97B4-0D493680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2ADD7E-B0FE-4BC2-98B3-CF5BAEC5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3B0D-B90D-4532-BD88-180E1E56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CE9198-57E4-41E3-B2C8-1B44892A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2E457-469E-4855-B99D-4B27CD73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DBB2F-8CEC-4C34-A2D0-95125E32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B75F-CB27-43CC-BFB2-267D392D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045B6-C12A-410B-9A4D-54CE437E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360E8-683B-4652-B31E-B2AA7869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E0E3A-6059-419C-ACC4-071FD0FC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071CB-BF34-4066-87EB-8FEA24D82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2E04-38EC-4905-B228-EDEF736D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FB6F7-D0F8-49FA-A05E-049C7869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0EF62-7FBC-4E45-B161-0D1AC3D3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824A4-5448-489A-80B9-450E783A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B2FF5-89ED-4039-A99E-6EF9B66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D15A6-494A-47BC-B740-3A9768AB2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4A962-CAF6-433D-9914-B28FA4A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12F2E-7970-44BD-867D-A0F696EA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BCE8F2-3F23-4BDD-BB55-CC51DF7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9B7D4-7665-493F-A747-1616535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921E5-806C-4CFC-B5D1-092F48D56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F10D-A3EB-4CAF-A341-2358AC3B1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50DCEA-80F8-4D59-94A6-3029D64F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62203-91AA-4560-935C-90F1FFF9D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E4788-E592-4153-993F-ED0F4685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5BDD5-F48B-4423-B4AF-714E3A34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D9138-978D-4649-BC4E-81E45E712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35F35-4B09-48B8-A89F-75552F1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57E49-BBC8-49F7-80AE-4B103504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E1D239-B2FB-4952-AFB1-381469B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BC1FB-ECFD-4E1C-AD4F-55678AF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86FE5-8AB5-4FB1-9A82-48D00E4E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E6D1-EBF2-4682-B6D5-8FAB0D371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63002-3F47-4DD0-83C6-01829171A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D9BCA7-37BB-4D8E-84E2-270FB8BA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19D59-73E6-4561-AA2D-460AFFF9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7652BF-0CFA-476F-BE92-C3BF4A8F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3EAAE-E1B6-45AA-8645-1F975139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70A8D-49E2-4B11-BB3B-BD03F820A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C27663-21C4-45F0-A594-91A708E9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3814E-5E85-466A-A2EA-B6DD0EE2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FB654-645F-4863-8FF8-7BDF1A0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87B27E-193F-429D-B617-E05884B8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BBD4-B89B-40DD-8340-5DE4C5C1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B5C54-A5F6-4794-978E-320B466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B35149-A8EF-4134-818B-3E913073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A7A66D-F84E-4C70-BE50-D6D91602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F6FDA-3AD8-4206-9167-FF512A52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DE8477-0931-48E2-AF00-6266953B0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9755-012E-4450-B964-2167258E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419B-A64A-4008-A9C7-206982F4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9FE8-43C3-49E9-A7CF-8F9B12B5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7001-9331-4230-9229-B6E38FFC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454E-5DC0-45D5-AA8E-5015A698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244-0135-4593-92BA-888BAEBC4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FEE7-F3DB-42F6-80FA-D9ED17A18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29B4-CED2-42D1-805F-92EA187D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9AC4-EDDD-45F1-8C62-3782103C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D45D-ADD4-432E-B13C-EC89E4E8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9BE3-E4CC-4805-9856-822CA627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89554-DDFA-4153-9650-A295C5D8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1431D-6622-496A-838F-8C5F7D9D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1577-9337-4B34-8608-B7AE0826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CA5D1-E2A1-42CB-9766-C6C22564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1ABFA-9F9F-4B68-A23F-FB8F566F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F02-0308-44C4-A0BA-30E6FDFF0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CEED-CEE7-4188-845D-3C936B12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F9B6C-4351-4E40-95EA-9B7C1D84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3C35-063D-42C5-9DB0-C22095B70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DEDB4-F3EC-408A-809F-74E838CA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8DFD9-68A9-43C1-AA1A-65FB8D93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29419-AF09-4297-B3B9-564D1DEE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2BAE2-2B2E-4AA2-8649-BCAE72AC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17497-D6BB-45C2-9F0F-3C0489038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A22EC-DDD6-4DAE-9577-D8EA29AB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FFC2B-5E6F-4288-9863-6453F73D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E99F-BA32-4840-8FF7-BACF9182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134C-61ED-4C33-A7FA-EF7990C2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23967-87F8-44B6-BAD2-A0F93493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FFFC4-B944-4619-835A-E3D90DFCC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7BBD3-2B88-4D4E-8322-6BEC9779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D3730-15F9-40C4-A4DE-EA20B0A4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9BAE-8F3F-413F-BF30-36A06D13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691FC-A5AD-41E2-874B-980B4859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0D8FD-5603-4A44-9DAA-D1DDB0D1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31AB-9A3A-4058-A3E8-0F3E00CB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D3DA7-50C0-4652-85FB-7090942DD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053C-1C94-4243-BE8A-360AD34F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C3787-06BB-49DF-9409-844280E4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24266-7FD5-4810-A583-5CA9B022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B8A30-0B56-49F4-99C1-6C987038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43C89-225E-41B9-BB52-DC00D1BE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77BD0-4401-49F7-BD97-82F7FD4B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3E21C-5640-4397-A6DE-BB0E4801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EE149-F507-44E2-B9F7-75C3646E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E0E1B-D30B-4E4C-B393-B5509FA8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72A19-A082-4274-9EC3-2E33BE96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B271-27C4-491C-B440-1A11DF11D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D26B-41E3-4651-9E31-9D9314971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53887-9711-4D9C-AB88-9BCA629C7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CC2E-0B39-4072-A4B1-A64C8530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D734-ADB2-46BE-8E78-53E20A98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B381E-C013-4DA3-8680-0A469888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B067F-B264-4DE3-A9E1-59C1915E1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CC595-40EB-4D27-BDE7-3C426BFF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680E-1313-4CC4-9849-55B0965D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99DE-71D9-4EE7-B634-DB4CF2F8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87BC9-871B-46C4-8945-1CB3F035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19D2A-E724-4028-92AB-4BE584EC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0349-1C8D-441A-A77F-C429B214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FBC30-0268-4D94-8009-75B2FFC1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A19FD-6809-4FFE-8391-7D60CC46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8B5A-C6C1-4D02-B8DD-D5C896A5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A96BB-6B2D-4D66-B1A5-356C9153A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35ED-0BF9-40F6-8096-0D2F14A0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146C4D-6D71-42A0-9D25-A131C30D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E58C3-670E-4911-8F74-7B0E9C31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EE67D-618B-4D72-B816-3ED66B9D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FAE8-DFA5-43D4-A94E-9A84B6A0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A7927-ED28-4951-85F4-217C5B0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7D9-4875-422F-80ED-793E28F1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C218-B4D8-4ECC-92FE-A32D09FE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787C1-359B-496F-B99B-D000A42A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09BD4-D97D-4C2F-BEF9-22E2FD2A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4FAEF0-174F-4B6E-A271-D370A8FE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D686-E452-4AEA-9313-AD746184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94754-427D-4945-98C9-335E4034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394C7-D76C-43F3-B50F-94C92AF26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BB7A-3C4F-4EF4-8CAE-7CA3C88C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0864D-1709-45FC-95E1-2918E29A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13DF6-DC83-4C7D-ADEB-C69197EF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C2C-50B0-4F11-9100-F88095C7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42960" y="274320"/>
            <a:ext cx="80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D10C4-A062-40B2-AEC8-F6E4BF9C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91B2B-7D17-419E-A437-C420117F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1E383-E950-402B-93FE-18C1078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D3E25F-49FD-435C-AA94-41868809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42960" y="3964320"/>
            <a:ext cx="8043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5295-710C-4F1F-AA95-2EB60D1F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64600" y="160020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296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764600" y="3964320"/>
            <a:ext cx="3925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43EE9-40BA-4E4C-952C-74F9D57C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3627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82560" y="160020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429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3627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82560" y="3964320"/>
            <a:ext cx="2589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3D39-4F59-49FB-9F7E-E76CAB94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3FF04-C5AC-42BA-B32B-DE2569275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A969E9-861E-429E-81A8-1417110B9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774BA-5E69-415E-A47D-37BB777D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81B6-03EF-4A8F-AF20-46F10B3A30B7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9670-5484-4A7D-931E-F54F99F0FE9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8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DA71-D913-4A56-A048-89D58638C06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9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0956-55E7-4B7D-AB52-B8B3F1148DC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dt" idx="31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8DE2-1DA5-40BC-A4C8-13787168311D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ftr" idx="32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7B26-D931-4244-A375-05E43E7D9CF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EC0A-9832-4CFE-9BB5-9FA126B329A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5B9-3393-47D1-942B-91278FFE45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black_on_white_world_map.gif"/>
          <p:cNvPicPr/>
          <p:nvPr/>
        </p:nvPicPr>
        <p:blipFill>
          <a:blip r:embed="rId2"/>
          <a:stretch/>
        </p:blipFill>
        <p:spPr>
          <a:xfrm>
            <a:off x="4143240" y="843120"/>
            <a:ext cx="4429440" cy="3085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0" y="3643200"/>
            <a:ext cx="9144000" cy="3214800"/>
          </a:xfrm>
          <a:prstGeom prst="rect">
            <a:avLst/>
          </a:prstGeom>
          <a:gradFill rotWithShape="0">
            <a:gsLst>
              <a:gs pos="0">
                <a:srgbClr val="344974"/>
              </a:gs>
              <a:gs pos="100000">
                <a:srgbClr val="2638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785880"/>
            <a:ext cx="9144000" cy="285732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d9d9d9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312840" y="7128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0" descr="grb.png"/>
          <p:cNvPicPr/>
          <p:nvPr/>
        </p:nvPicPr>
        <p:blipFill>
          <a:blip r:embed="rId3"/>
          <a:stretch/>
        </p:blipFill>
        <p:spPr>
          <a:xfrm>
            <a:off x="4376880" y="103320"/>
            <a:ext cx="469800" cy="539640"/>
          </a:xfrm>
          <a:prstGeom prst="rect">
            <a:avLst/>
          </a:prstGeom>
          <a:ln w="0">
            <a:noFill/>
          </a:ln>
        </p:spPr>
      </p:pic>
      <p:sp>
        <p:nvSpPr>
          <p:cNvPr id="46" name="TextBox 11"/>
          <p:cNvSpPr/>
          <p:nvPr/>
        </p:nvSpPr>
        <p:spPr>
          <a:xfrm>
            <a:off x="5216760" y="84240"/>
            <a:ext cx="361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Bosna i Hercegov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Calibri"/>
              </a:rPr>
              <a:t>Agencija za statistiku Bosne i Hercegov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0" y="3571920"/>
            <a:ext cx="9144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3"/>
          <p:cNvSpPr/>
          <p:nvPr/>
        </p:nvSpPr>
        <p:spPr>
          <a:xfrm>
            <a:off x="0" y="3500280"/>
            <a:ext cx="9144000" cy="21456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4" descr="znakposgrad.png"/>
          <p:cNvPicPr/>
          <p:nvPr/>
        </p:nvPicPr>
        <p:blipFill>
          <a:blip r:embed="rId4"/>
          <a:stretch/>
        </p:blipFill>
        <p:spPr>
          <a:xfrm>
            <a:off x="0" y="2560680"/>
            <a:ext cx="3067200" cy="22971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B8CB-A3CC-42CE-9472-3675402BE4F1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FD08-2535-484D-B5D5-A267D1521E1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500040" y="0"/>
            <a:ext cx="35712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28760" y="0"/>
            <a:ext cx="7128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CC07-8B49-48BF-9DC9-B2FAEBA8C0C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BC5A-57A6-4483-9B2A-C7CC6132EFA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580E-9EA0-4434-AC4D-380C07DCA63E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EC3A-A9EE-4417-82D0-AE123602145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80C3-ED2E-4197-B9D5-B66E702D5F23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604B-0E57-4D4E-9383-A7332D66CB3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22A8-6DDB-47A8-9F8A-7733EA1AC514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DCE-E9BE-40A6-903E-ACB66CDB721E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9F4F-AF08-4FBF-8D4A-4D082781DB6A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4B8B-5EF6-4476-ACBD-AB3DA075F30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618E-B55C-4F8B-84EB-BDE3EDF43C9B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200-E060-4C94-87BA-53113CB4058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500040" cy="6858000"/>
          </a:xfrm>
          <a:prstGeom prst="rect">
            <a:avLst/>
          </a:prstGeom>
          <a:gradFill rotWithShape="0">
            <a:gsLst>
              <a:gs pos="0">
                <a:srgbClr val="344974">
                  <a:alpha val="90196"/>
                </a:srgbClr>
              </a:gs>
              <a:gs pos="100000">
                <a:srgbClr val="26385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500040" y="0"/>
            <a:ext cx="428760" cy="6858000"/>
          </a:xfrm>
          <a:prstGeom prst="rect">
            <a:avLst/>
          </a:prstGeom>
          <a:gradFill rotWithShape="0">
            <a:gsLst>
              <a:gs pos="0">
                <a:srgbClr val="f2f2f2">
                  <a:alpha val="80000"/>
                </a:srgbClr>
              </a:gs>
              <a:gs pos="100000">
                <a:srgbClr val="d9d9d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8" descr="znakposgrad.png"/>
          <p:cNvPicPr/>
          <p:nvPr/>
        </p:nvPicPr>
        <p:blipFill>
          <a:blip r:embed="rId2"/>
          <a:stretch/>
        </p:blipFill>
        <p:spPr>
          <a:xfrm>
            <a:off x="0" y="6072120"/>
            <a:ext cx="1047600" cy="785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42960" y="1600200"/>
            <a:ext cx="8043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6519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4176-F475-4B13-86BB-DF59FA6F4139}" type="datetime">
              <a:rPr b="0" lang="sr-Latn-CS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2479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eeting of the Policy Group on Statistical Cooperation 6 - 7 October 2010                                                  Sarajevo, Hotel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565B-7D78-4677-B529-B57315082D81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rubina.ligata@bhas.ba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7640" y="1052640"/>
            <a:ext cx="878508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bs-BA" sz="4400" spc="-1" strike="noStrike">
                <a:solidFill>
                  <a:srgbClr val="595959"/>
                </a:solidFill>
                <a:latin typeface="Arabic Typesetting"/>
                <a:ea typeface="Arabic Typesetting"/>
              </a:rPr>
              <a:t>Contribution to Geospatial Analysis of Household Survey Data in Bosnia and Herzegovina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3"/>
          <p:cNvSpPr/>
          <p:nvPr/>
        </p:nvSpPr>
        <p:spPr>
          <a:xfrm>
            <a:off x="250920" y="5516640"/>
            <a:ext cx="871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Workshop on Data Integration: Realising the Potential of Statistical and Geospatial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Belgrade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Serbia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May </a:t>
            </a: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1" i="1" lang="bs-BA" sz="1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2233440" y="3714840"/>
            <a:ext cx="6481800" cy="11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Edin Šabanović, Assistant 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Sector for Statistical Methodology, Standards, Planning, Quality and C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Arial"/>
              </a:rPr>
              <a:t>Agency for Statistics of Bosnia and Herzegov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200" spc="-1" strike="noStrike">
                <a:solidFill>
                  <a:srgbClr val="000000"/>
                </a:solidFill>
                <a:latin typeface="Calibri"/>
              </a:rPr>
              <a:t>User`s needs for socio-economic indicators in BiH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o one of these household-based surve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uld provide indicators at levels of data disaggregation, which are lower than Bosnian entities, because of limited sample siz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SMS 2011: 5,002 HHs; LSMS 2004: 3000 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 c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ca 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00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 are user`s needs for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ocio-economic indicato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t lower levels of geospatial and administrative organization of the 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DP projects related to the regional disparity assessment in Bosnia and Herzegovina in 2010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0A9D-21FF-4081-948E-BD328EA47B8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1)</a:t>
            </a:r>
            <a:br>
              <a:rPr sz="24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10920" y="764640"/>
            <a:ext cx="8281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llowing poverty indicators are selected from 2015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household lev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rate at individual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ree main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mployment indicators were 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cted from 2015 L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c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dicators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sented at level of 17 Bosnian cantons, regions or distri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rcGiS Ver. 10.0 and QGIS are used for geospatial disaggre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105-0EFD-4C55-A303-B6807526F01C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650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2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395280" y="1020600"/>
            <a:ext cx="842472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289CD-3879-4A9A-A50C-A7765F765B16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6" descr=""/>
          <p:cNvPicPr/>
          <p:nvPr/>
        </p:nvPicPr>
        <p:blipFill>
          <a:blip r:embed="rId1"/>
          <a:stretch/>
        </p:blipFill>
        <p:spPr>
          <a:xfrm>
            <a:off x="1116000" y="1020600"/>
            <a:ext cx="741672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23640" y="115920"/>
            <a:ext cx="8505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</a:t>
            </a:r>
            <a:br>
              <a:rPr sz="2400"/>
            </a:br>
            <a:r>
              <a:rPr b="1" lang="bs-BA" sz="2400" spc="-1" strike="noStrike">
                <a:solidFill>
                  <a:srgbClr val="000000"/>
                </a:solidFill>
                <a:latin typeface="Calibri"/>
              </a:rPr>
              <a:t>BiH (3)</a:t>
            </a:r>
            <a:br>
              <a:rPr sz="3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11280" y="691920"/>
            <a:ext cx="8175600" cy="60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5CF7-1805-4A04-8318-C960A3668587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920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Rectangle 1"/>
          <p:cNvSpPr/>
          <p:nvPr/>
        </p:nvSpPr>
        <p:spPr>
          <a:xfrm>
            <a:off x="611280" y="115920"/>
            <a:ext cx="842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</a:t>
            </a:r>
            <a:br>
              <a:rPr sz="2000"/>
            </a:b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4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80661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Description: Inline image"/>
          <p:cNvPicPr/>
          <p:nvPr/>
        </p:nvPicPr>
        <p:blipFill>
          <a:blip r:embed="rId1"/>
          <a:stretch/>
        </p:blipFill>
        <p:spPr>
          <a:xfrm>
            <a:off x="900000" y="981000"/>
            <a:ext cx="7920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6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636480" y="549360"/>
            <a:ext cx="8820360" cy="64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7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"/>
          <p:cNvPicPr/>
          <p:nvPr/>
        </p:nvPicPr>
        <p:blipFill>
          <a:blip r:embed="rId1"/>
          <a:stretch/>
        </p:blipFill>
        <p:spPr>
          <a:xfrm>
            <a:off x="431640" y="685800"/>
            <a:ext cx="878544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684360" y="18900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000" spc="-1" strike="noStrike">
                <a:solidFill>
                  <a:srgbClr val="000000"/>
                </a:solidFill>
                <a:latin typeface="Arial"/>
              </a:rPr>
              <a:t>Geospatial presentation of basic socio-economic indicators in BiH </a:t>
            </a:r>
            <a:r>
              <a:rPr b="1" lang="bs-BA" sz="2000" spc="-1" strike="noStrike">
                <a:solidFill>
                  <a:srgbClr val="000000"/>
                </a:solidFill>
                <a:latin typeface="Calibri"/>
              </a:rPr>
              <a:t>(8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5" descr=""/>
          <p:cNvPicPr/>
          <p:nvPr/>
        </p:nvPicPr>
        <p:blipFill>
          <a:blip r:embed="rId1"/>
          <a:stretch/>
        </p:blipFill>
        <p:spPr>
          <a:xfrm>
            <a:off x="431640" y="701640"/>
            <a:ext cx="878544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 txBox="1"/>
          <p:nvPr/>
        </p:nvSpPr>
        <p:spPr>
          <a:xfrm>
            <a:off x="684000" y="531720"/>
            <a:ext cx="8280360" cy="60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aper opened a question of the production of socio-economic indicators at sub-entity level in B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Inceasing user`s need for subnational and sub-entity statistical data on living standards, poverty and employ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Limitation of household surveys for providing of such kind of disaggregated statistical 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s for sophisticated statistical techniques, which can combine survey data with those coming from population cens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re-condition for the use of such techniques is that survey samples were selected from the census sampling frame, which is still not done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w sampling frame in following 3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 work of statistician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pecialists for geospatial presentations of statistical data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Rectangle 1"/>
          <p:cNvSpPr/>
          <p:nvPr/>
        </p:nvSpPr>
        <p:spPr>
          <a:xfrm>
            <a:off x="324000" y="115920"/>
            <a:ext cx="86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2800" spc="-1" strike="noStrike">
                <a:solidFill>
                  <a:srgbClr val="000000"/>
                </a:solidFill>
                <a:latin typeface="Arial"/>
              </a:rPr>
              <a:t>Conclusions and future step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598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1" lang="bs-BA" sz="3000" spc="-1" strike="noStrike">
                <a:solidFill>
                  <a:srgbClr val="000000"/>
                </a:solidFill>
                <a:latin typeface="Calibri"/>
                <a:ea typeface="Arial"/>
              </a:rPr>
              <a:t>ont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764640"/>
            <a:ext cx="85327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Poverty and employment in Bosnia and Herzegovina - Evidence from household surve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Geospatial presentation of basic socio-economic indicators in Bosnia and Herzegovi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onclusions and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092A-D4E0-4A54-AA32-BDEBEA58416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785520" y="1643040"/>
            <a:ext cx="7900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ank you for the attention</a:t>
            </a:r>
            <a:r>
              <a:rPr b="1" lang="bs-BA" sz="4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>
                <a:solidFill>
                  <a:srgbClr val="000000"/>
                </a:solidFill>
                <a:latin typeface="Calibri"/>
              </a:rPr>
              <a:t>Edin Šabanovi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edin.sabanovic@bhas.gov. ba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1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1119-BDA1-4908-BD35-7DEDC10FA78D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still one of the most pervasive problems in the overall human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Millions of people live in extreme poverty, i.e. with less than the international poverty line of US$1.90 a day or making just a little more than this amou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s 2030 treat this problem with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SDG 1-No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Poverty is multidimensional phenomenon and consists of various compon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152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Background (2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2876-08BC-4083-A6AA-E33D7578D57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611280" y="907920"/>
            <a:ext cx="8353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Employment status is one of the most important components, because it most affects pover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The highest poverty rates in 2015 in BiH were among unable to work (38.5%) and unemployed persons (26.2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3200" spc="-1" strike="noStrike">
                <a:solidFill>
                  <a:srgbClr val="000000"/>
                </a:solidFill>
                <a:latin typeface="Calibri"/>
              </a:rPr>
              <a:t>Unemployed persons in EU-28 faced a particularly high risk of poverty or social exclusion (67.0 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-100080"/>
            <a:ext cx="8640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1)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39280" y="765000"/>
            <a:ext cx="84963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st poverty assessment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Bosnia and Herzegovina w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ade in 2001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nd 200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in th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iving Standards Measurement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LS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orld Bank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absolut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used as a monetary measure of pover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produc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ead Count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) Gini coefficien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verty Gap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) Gini coefficient using OECD sca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ity of Poverty;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) Theil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(iv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fall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) Entropy index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) S9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) S50/S10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) S90/S50</a:t>
            </a:r>
            <a:r>
              <a:rPr b="0" lang="bs-B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BB96-9DC2-46C6-AA10-216B0F469822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74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2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84000" y="1196640"/>
            <a:ext cx="8459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poverty and inequality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 and mixed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r displacement statu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adults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 siz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0F31-BD79-40D1-83F3-6166CD00274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3)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0920" y="1125360"/>
            <a:ext cx="821844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ince 2004,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Household Budget Surve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HBS) was designed for measuring of pover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European methodology of </a:t>
            </a: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relative poverty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was appl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ff0000"/>
                </a:solidFill>
                <a:latin typeface="Calibri"/>
              </a:rPr>
              <a:t>Consumption expenditure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of households by COICOP was used as a monetary measure of well-be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lowing poverty and inequality indicators were calculate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household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) Gini coeffi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incidence at individual level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) S80/S20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(iii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verty gap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HBS was conducted four times: 2004, 2007, 2011 and 201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D6FF-4B62-4355-AEA8-2E1E294F432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748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Poverty in BiH - Evidence from LSMS and HBS (4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68000" y="620640"/>
            <a:ext cx="8496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these indicators were disaggregated by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gions (Bosnian entities and Brcko district BiH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yp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ze of household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ucation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status of the head of household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ge of household members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x of household memb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FB8A-454E-460C-93AA-3EB507596F54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7120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s-BA" sz="3000" spc="-1" strike="noStrike">
                <a:solidFill>
                  <a:srgbClr val="000000"/>
                </a:solidFill>
                <a:latin typeface="Calibri"/>
              </a:rPr>
              <a:t>Employment in BiH - Evidence from LFS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539640" y="836640"/>
            <a:ext cx="82598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irst full-scale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abor Force Surve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s conducted in 2006 and it was launched as regula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annual cross-sectional household surve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oducing basic labor force indicators in line with definitions of the International Labor Organization (IL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ost used indicators of the employment of Bosnian population from labor force surveys are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loyment rat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employment a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ivity rate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majority of above mentioned indicators were disaggregated by regions (Bosnian entities), type of location (urban, rural)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, sex, ag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education</a:t>
            </a:r>
            <a:r>
              <a:rPr b="0" lang="bs-BA" sz="2400" spc="-1" strike="noStrike">
                <a:solidFill>
                  <a:srgbClr val="000000"/>
                </a:solidFill>
                <a:latin typeface="Calibri"/>
              </a:rPr>
              <a:t> of respon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6A32-F5C4-4C57-AE44-F236D5973F4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21:53:10Z</dcterms:created>
  <dc:creator>xy</dc:creator>
  <dc:description/>
  <dc:language>en-US</dc:language>
  <cp:lastModifiedBy>Edin Sabanovic</cp:lastModifiedBy>
  <dcterms:modified xsi:type="dcterms:W3CDTF">2019-05-10T11:29:34Z</dcterms:modified>
  <cp:revision>295</cp:revision>
  <dc:subject/>
  <dc:title>Slide 1</dc:title>
</cp:coreProperties>
</file>