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5EBB-B56E-4B99-A3B8-861CC84A8C43}" type="slidenum"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D03A-AB58-4A15-86E6-064173D6807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30E6-C7D3-46A0-A305-504196EA0D26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21DD-7504-4A54-A0C5-2D4A5256BBEE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F9A8-1B41-41DA-A3A1-CC9E3B4DDBB0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B3A1-0AFF-4262-8CE3-FD449EBDB4D3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11C-C73B-4039-BE82-8837286B803C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0C4A-D76E-41E2-B6C0-C6350E9E0E56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F79A-2434-41AF-951C-A3E9D1339F8F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36A1-B619-465B-8E4D-4010F7A227A0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755-5C03-4D13-8A2B-38F5AACD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7EB-534A-4FF1-96D8-872A0FD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1E455-CA23-47CD-A546-481462D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06555-6BF3-40BB-8D9F-DD729BFB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6724F-EC16-4A84-AC16-B41ECBC2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FB6CB-7855-4052-AE72-2A34872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880B7-6BA5-4C70-A487-996D2C53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FECF-FBFB-49BF-91C2-8724D32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7F00C-548E-4865-8EB2-4BBDB1A9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BE3F2-96FD-455C-B112-53ECCB83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32D76-E761-43E0-8DF9-2185BA2D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0E2AC-EF9A-4BFE-864E-E474E490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D38-1BD4-456B-9467-BBFDA3BE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20EE1-51C9-4FEC-B67C-613B218D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C1D51-06A5-4482-8352-0CE55E2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3D563-85DE-4867-9AB3-D2133BF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6F521-D396-4E0D-A697-EF22F633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88B4E-F6B8-491B-BB22-012E7FA6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F0196-24F9-4648-BEE6-723612E6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CE9B7-4CEF-4DC4-B3C2-6ADFEB8D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F461C-101E-42DD-A179-EEE0A8D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B1918-AAE8-44EB-817F-169B82A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3C1E4-ECD9-46F1-A811-B103C039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CCF-C81E-4A23-A585-E94A7239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7C79E-7550-4A9E-860F-E74651E2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3FFCA-5A94-420E-A665-589291E1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78D11-D10D-4007-AFD8-89CAB079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937BF-3E63-4150-9A4C-8AF8EB60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0EAE8-42D6-4805-8E91-EE9D7034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93BF1-25D1-4968-9C2D-74A55E1F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2F99-22ED-4D2F-BCF7-FE866C61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6F6B9-8016-49FB-937A-755D3AAC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0F071-5E53-47A7-B3C5-6C9500E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17287-72EB-4F20-A733-C8EB0FE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B88A-0ADF-4945-8956-8026C31F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AA194-14CA-41F1-87A2-DA22CB43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F468A-A896-4A3A-A819-024A3CDB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EDE2C-8E56-429B-A3F7-FC01E5FD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855BC-A2A0-4E2A-BD15-D0EED63F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70951-6AD9-4DD2-A6F9-1EC54255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8404E-66A9-479F-8608-22638742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1175C-089E-424C-9055-DE71C67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1B771-0725-4930-ACA1-4501E39E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02D0A-33ED-4A6C-8F95-1EAB1364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80E5B-A41D-4F19-87B0-599FFA4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396C-33EC-4717-B64D-C7C3FFBE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7BA9F-2AAF-43E4-930A-B9027B5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B396C-48AE-4BF1-978A-25889F06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8674A-3FFC-4D41-A2CD-DAD2B18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1A4BA-62C8-4262-B1C3-B39A5446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E48F5-CBC1-428B-B5CD-65AC7891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F239-781E-48D0-AF09-E1E29EDB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626F-8779-486C-B999-6D92201D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29D8-902A-49D3-AF20-D3549748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6895-6B80-42F3-A57A-32F0BBD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A05-8007-48AA-A606-9A7FDCD5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304-9255-4D20-99D7-110B0B9B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9B1A-C6BA-410E-A005-ED306B16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B952-875B-4F8C-9CCD-1988C38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BBAA-4F47-44A7-A5B3-8DE0AA7D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60B3-CDBB-4AC5-A824-EE92BD1D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2787-DA28-4191-B6A8-67854E38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3F7D-0057-41E2-AA06-FC2177DC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1C2F-C951-4F08-BA14-71512AB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99F5-DB9C-44A5-8423-8BE4DEF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EDE1-C938-48A1-B4B1-2227E984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6896-2E60-47B4-A25F-1F24BC21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898-966B-4DEC-B7AE-6699D235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F181-CEA8-4B3F-B735-FEE0072E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C6E9-82ED-4ACB-A0F8-3D22661E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7301-52DF-4260-9B2F-CE8D9A9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3773-7625-44FC-A3B0-3C33B59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1BF1-5590-4BE0-A675-CD204D73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CC96-0ED6-489E-9383-E67E0329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03F4-DB56-4D66-9C95-5998FBE6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EDFE-3F97-4731-B5D1-387A3220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E644-A0BF-46F6-BDAD-C7B483E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F479-3EE3-49DA-BAD7-EF7E1BBC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FDB-FA38-4AAB-A3EB-4E8F2FC1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0FD9-C7FD-4D95-A5E8-543D5EA2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FCC4-1C24-4E3A-9992-44F94B8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CB42-73CA-4950-A36C-A1397C4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BFBD-8ED1-4BB1-B249-F298DA22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596DB-5AFB-4208-B1C4-147ECD8A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361B3-1928-4595-A300-5F19EF1C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AA2D-329F-49C4-8E0C-A01EDB96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F481-D031-4D97-8AFA-E0AAC875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BCF0-7333-48D1-8802-9B9F20C6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5321B-C3FF-429E-979E-EA503764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D52-3B62-4912-A075-8DFA8108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54D3F-1EAB-488E-AE45-E5407B0C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ED1C4-5ABC-4009-AE70-E06331EB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0BAF-0BFC-487E-809A-A4D971C1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6F0A-FD84-471B-878E-3036CA74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4041-6AFC-4710-91B9-CBA8466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426C-A086-40A3-86A3-7107421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A0EAC-4B21-4231-A06F-82864C4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716F9-8070-406C-90BF-377B3CC4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8C57B-F824-447A-938C-1B5991A2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835E2-CFA0-4D5A-9A5E-7F6996CA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B09-6E4A-4F45-82FA-8BB9171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C4F19-885B-4137-88D9-7275006B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44426-2808-49EF-9154-087F81DE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26985-0710-40A4-ABAE-528E1F7D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BC7F-0985-4AF2-B210-0DD35B7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E8EB-9822-461B-88A5-4812B322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BBADB-39CD-4C52-856D-2C631377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C429-2351-4F15-93AD-93C237C7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CB0F-9455-4201-8D27-A80C739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7265F-EB27-43CB-82D8-AA2241B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D5001-8786-4DE0-BB79-55A5487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9C4-7CF3-4D98-8ECC-7338CCD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444B5-5570-401E-AF5D-1CAD5283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2192-E97C-4AA4-B26C-1F0A26E5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E3E1E-D5CB-4F50-95EC-A220071E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CFAB1-5F87-48E6-9378-185CD480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F500E-D271-4674-A237-1C7B066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6018F-3C31-405F-998D-DF385DF9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87C00-BA8D-4122-A83D-0E24E045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E0748-1E48-4FF5-8302-BE349B87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33FD-EA11-4277-9900-3EEDCF5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148C-AF98-477C-BC0D-4EAEDB7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C23-7418-49C7-9F44-8BE55AA7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0864-3AE0-4E57-831C-A24D5F1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72F7-E7F7-490E-AEEF-BE5B974A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A8E3A-22E7-45D3-9574-89411FF6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A7D32-396D-43FE-97B5-1212ACE2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47FF-7061-4C3C-B5F3-202C2E18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47956-75EC-4E29-B79A-06A3C698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9D2B8-B5AA-447C-A598-D4D6B07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3F09E-0134-40DB-9382-2A01F1B2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5C58-E7F7-4555-8519-024444A7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636FB-4864-46DC-BF45-A8E829DE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A8D-63B5-4C14-B340-4AE8BE3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47759-02F3-4176-BD3E-81D8CD2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7C79-9E2D-4396-87A1-8242433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7F0C-AFBA-4BC6-AAC4-7B00F900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4C03-8F5B-47DB-A0B3-3505843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74EAA-B82F-47A3-BF49-251BFF71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A39AE-95F3-47B8-B959-6406E6B7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2E3DB-920E-4FC5-ADCC-D3C302DB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6E28C-9D1D-40EE-9B5D-BF31C8BD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27A3A-8F3C-45A9-84C4-33807E2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CE04D-78A8-4C76-B1FA-E5257F0C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29BC-CB53-4B62-AD25-031F6D374D6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6496-FA69-4B4B-864F-5F6F43606A7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093D-7E66-4DE3-BCD4-7C8E1DCF5CB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7369-D6F1-42BF-B6C4-BDBB4E3F9EC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EE0F-513A-46AD-BF1B-32659F1C35E0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542-67DB-430C-B22E-E6799A44E5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98A1-8895-4D56-BCA5-139B122549A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ED1A-A52C-42CE-B10E-75D84A1C272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lack_on_white_world_map.gif"/>
          <p:cNvPicPr/>
          <p:nvPr/>
        </p:nvPicPr>
        <p:blipFill>
          <a:blip r:embed="rId2"/>
          <a:stretch/>
        </p:blipFill>
        <p:spPr>
          <a:xfrm>
            <a:off x="4143240" y="843120"/>
            <a:ext cx="4429440" cy="3085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3643200"/>
            <a:ext cx="9144000" cy="3214800"/>
          </a:xfrm>
          <a:prstGeom prst="rect">
            <a:avLst/>
          </a:prstGeom>
          <a:gradFill rotWithShape="0">
            <a:gsLst>
              <a:gs pos="0">
                <a:srgbClr val="344974"/>
              </a:gs>
              <a:gs pos="100000">
                <a:srgbClr val="2638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785880"/>
            <a:ext cx="9144000" cy="28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12840" y="712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rb.png"/>
          <p:cNvPicPr/>
          <p:nvPr/>
        </p:nvPicPr>
        <p:blipFill>
          <a:blip r:embed="rId3"/>
          <a:stretch/>
        </p:blipFill>
        <p:spPr>
          <a:xfrm>
            <a:off x="4376880" y="103320"/>
            <a:ext cx="46980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5216760" y="8424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57192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3500280"/>
            <a:ext cx="9144000" cy="214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znakposgrad.png"/>
          <p:cNvPicPr/>
          <p:nvPr/>
        </p:nvPicPr>
        <p:blipFill>
          <a:blip r:embed="rId4"/>
          <a:stretch/>
        </p:blipFill>
        <p:spPr>
          <a:xfrm>
            <a:off x="0" y="2560680"/>
            <a:ext cx="3067200" cy="229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FA81-0221-4542-8BA6-7C339DAD3F0B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0DF-4BC6-45F8-8BEB-1CD54E3C871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00040" y="0"/>
            <a:ext cx="35712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760" y="0"/>
            <a:ext cx="712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E86C-3377-46E3-BD6B-6793A3AA491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8DF-3CAD-4BB1-A74E-5FC2D8B6A5F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07BB-C152-40B7-8776-E22A13CFA880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DDDB-1CE1-45C4-9C64-580A5D24CD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3545-6F3C-4B67-8FD6-2FEB2B1C28E2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ECCE-9DDF-4236-8E6E-D71401A9596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6166-4C56-4D25-9C1B-128DF4550AE3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C6D5-FF97-4FAD-91D4-15926046373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B703-0E33-4E63-AF23-551C6967F7C1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4B73-732D-4A53-B334-F0C4EE337A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8AF1-920C-40FB-8CFB-7071C083699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15C3-E4B2-43C1-B729-32460E9019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D7DA-53DA-452D-9D4E-4D5735DAB57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A436-4285-4E45-9A82-1F2B04CF207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ubina.ligata@bhas.b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7640" y="1052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bs-BA" sz="4400" spc="-1" strike="noStrike">
                <a:solidFill>
                  <a:srgbClr val="595959"/>
                </a:solidFill>
                <a:latin typeface="Arabic Typesetting"/>
                <a:ea typeface="Arabic Typesetting"/>
              </a:rPr>
              <a:t>Contribution to Geospatial Analysis of Household Survey Data in Bosnia and Herzegovin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250920" y="5516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Workshop on Data Integration: Realising the Potential of Statistical and Geospati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Belgrad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Serb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233440" y="3714840"/>
            <a:ext cx="64818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din Šabanović, 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ector for Statistical Methodology, Standards, Planning, Quality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gency for Statistics of Bosnia and Herzeg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Calibri"/>
              </a:rPr>
              <a:t>User`s needs for socio-economic indicators in BiH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 one of these household-based surve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provide indicators at levels of data disaggregation, which are lower than Bosnian entities, because of limited sample si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SMS 2011: 5,002 HHs; LSMS 2004: 3000 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 c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ca 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are user`s needs for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ocio-economic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lower levels of geospatial and administrative organization of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P projects related to the regional disparity assessment in Bosnia and Herzegovina in 2010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C68C-404B-4E08-AA4C-03FDC0C44F4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1)</a:t>
            </a:r>
            <a:br>
              <a:rPr sz="24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0920" y="764640"/>
            <a:ext cx="8281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poverty indicators are selected from 2015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household 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individu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ee main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mployment indicators were 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cted from 2015 L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dicators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sented at level of 17 Bosnian cantons, regions o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cGiS Ver. 10.0 and QGIS are used for geospatial dis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16E2-42F1-45D7-94F3-35D19E6CFE9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0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2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020600"/>
            <a:ext cx="84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D72-42F8-4934-8587-4799E11052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1116000" y="1020600"/>
            <a:ext cx="74167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3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11280" y="691920"/>
            <a:ext cx="8175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3C65-F68C-4B9E-A5F4-9151514ED5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611280" y="115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</a:t>
            </a:r>
            <a:br>
              <a:rPr sz="2000"/>
            </a:b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8066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Description: Inline image"/>
          <p:cNvPicPr/>
          <p:nvPr/>
        </p:nvPicPr>
        <p:blipFill>
          <a:blip r:embed="rId1"/>
          <a:stretch/>
        </p:blipFill>
        <p:spPr>
          <a:xfrm>
            <a:off x="900000" y="981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6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36480" y="549360"/>
            <a:ext cx="8820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1"/>
          <a:stretch/>
        </p:blipFill>
        <p:spPr>
          <a:xfrm>
            <a:off x="431640" y="685800"/>
            <a:ext cx="87854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8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31640" y="701640"/>
            <a:ext cx="8785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4000" y="531720"/>
            <a:ext cx="8280360" cy="60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aper opened a question of the production of socio-economic indicators at sub-entity level in B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nceasing user`s need for subnational and sub-entity statistical data on living standards, poverty and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imitation of household surveys for providing of such kind of disaggregated statistic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s for sophisticated statistical techniques, which can combine survey data with those coming from population c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re-condition for the use of such techniques is that survey samples were selected from the census sampling frame, which is still not done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w sampling frame in following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work of statistician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s for geospatial presentations of statistical data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Arial"/>
              </a:rPr>
              <a:t>Conclusions and future ste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59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1" lang="bs-BA" sz="3000" spc="-1" strike="noStrike">
                <a:solidFill>
                  <a:srgbClr val="000000"/>
                </a:solidFill>
                <a:latin typeface="Calibri"/>
                <a:ea typeface="Arial"/>
              </a:rPr>
              <a:t>ont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764640"/>
            <a:ext cx="8532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overty and employment in Bosnia and Herzegovina - Evidence from household surve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 and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390-3BE9-41DE-863F-F8241895815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 for the attention</a:t>
            </a:r>
            <a:r>
              <a:rPr b="1" lang="bs-BA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Edin Šabano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din.sabanovic@bhas.gov. b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3AB-8FD0-4D4E-8641-CC23250389D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still one of the most pervasive problems in the overall hum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Millions of people live in extreme poverty, i.e. with less than the international poverty line of US$1.90 a day or making just a little more than this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s 2030 treat this problem with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 1-No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multidimensional phenomenon and consists of various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3322-1A3C-4FE1-87EB-E534EB1CE35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Employment status is one of the most important components, because it most affects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The highest poverty rates in 2015 in BiH were among unable to work (38.5%) and unemployed persons (26.2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nemployed persons in EU-28 faced a particularly high risk of poverty or social exclusion (67.0 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1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928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st poverty assessment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Bosnia and Herzegovina w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de in 2001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nd 200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ving Standards Measurement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S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orld Bank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absolut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used as a monetary measure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produc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 Coun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Gini coeffici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rty Ga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Gini coefficient using OECD sc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ity of Poverty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) Theil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v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fall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) Entropy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) S9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) S5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) S90/S50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E107-EED3-46EF-BA63-B42A061B39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2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000" y="119664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poverty and inequality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 and mixed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isplacement statu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adults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s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E4BD-8812-4954-B85C-C6CD776A05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3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0920" y="1125360"/>
            <a:ext cx="8218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ince 2004,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Household Budget Surve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HBS) was designed for measuring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uropean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relativ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of households by COICOP was used as a monetary measure of well-b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calcul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household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individual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S80/S20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 was conducted four times: 2004, 2007, 2011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A87-0652-4CB6-84E7-90CC913296B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4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000" y="620640"/>
            <a:ext cx="84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these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 and Brcko district BiH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household member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 of household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2E33-A080-4670-8794-EC5EBF1865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Employment in BiH - Evidence from LF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ull-sca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bor Force Surv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ducted in 2006 and it was launched as regul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nual cross-sectional household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ing basic labor force indicators in line with definitions of the International Labor Organization (IL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used indicators of the employment of Bosnian population from labor force surveys ar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above mentioned indicators were disaggregated by regions (Bosnian entities), 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, sex,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ducation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of respon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C5B2-C449-4275-9DA2-5FB773CD2E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1:53:10Z</dcterms:created>
  <dc:creator>xy</dc:creator>
  <dc:description/>
  <dc:language>en-US</dc:language>
  <cp:lastModifiedBy>Edin Sabanovic</cp:lastModifiedBy>
  <dcterms:modified xsi:type="dcterms:W3CDTF">2019-05-10T11:29:34Z</dcterms:modified>
  <cp:revision>295</cp:revision>
  <dc:subject/>
  <dc:title>Slide 1</dc:title>
</cp:coreProperties>
</file>