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7576-8F22-4EDC-943F-260E43C2C57C}" type="slidenum"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D31C-C502-452B-96DE-692A2017B5FA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72CE-C4CC-4B87-924B-EF67E5D331AC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071C-1541-4235-898C-D52199CA5528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B6D8-0D9F-4A20-A4BC-A2ADD80FB79E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D755-9C91-4433-87E0-92CA6DD8BBB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548C-6EF2-4C2C-AF60-34300225F6B8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CE53-1A6A-415E-98EB-124144E64C1F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BB61-FB7C-4FEF-B7A0-E6CBDCA0E56C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9866-7B82-4BDC-A9FC-5956C0630C0C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92A-5379-4F02-B8B5-BB370D14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40B-2517-45DA-8F1E-C7568447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4ECD0-D72A-4BFE-B678-48BCDF4D2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6AC53-70BF-4A04-82EF-53F5E0F2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C9C87-190B-4180-BBEC-D26C54E7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8B43F-A74D-49A6-BF11-9509CD78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B6137-3140-44D5-9867-DAD73657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35750D-00CF-4E10-945F-B62B1AF5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631F3-5B75-4752-8BC0-6EEB19D5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BDB0A-FCFE-46FD-81F6-ABBCC0B82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A0A18-8F81-4D6D-A2B5-526C94E55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5DFB9-1ECF-48E5-A99A-2C40F7EDB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421-6728-456F-8E0A-BEC5D41B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B1CB4-4771-4228-A0F8-059F5BC1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4DA99-00D9-4B5E-93C3-34C82C9B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34912-2942-4002-A490-A7E64691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39E75-3333-4C53-A683-F4D7A8A6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E7A60-CDC4-4DCB-A5B1-371A0525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454069-FEEE-4701-8AD2-00C44E8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504234-ABC8-4D49-BA58-CD253A88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23AC7-DAF9-461F-B1F2-F7FB5F8F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BA6C0-639C-415F-BA70-6A95A945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D3783-FC0C-4557-8E3D-FD36B832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D543-210D-40F9-B8DC-58912E1F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D8265-7889-4951-BEC4-4B94E1D7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A6C2C-3847-4241-A0E7-FDDF4669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FA11D-ACAF-4E37-9ED6-464E1AF6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A1354-D333-427D-87E0-5F88F7CC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3B46D-E00B-4D45-8B16-6342EA7D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DC0CF-AA0B-47B2-8680-EA0AD505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48AC0-505F-4599-BEEA-554BB1A6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67159-0069-4AFD-94B4-C78C13A7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E0F2-CC56-4E4F-9FAF-4BB8A693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CD54D-0FB8-4229-907F-104DA26B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5A6-27EA-4ED0-BC5B-2FF4B5AE4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092552-3E40-440A-97DB-CC56E32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A85E7-C017-4161-85B8-B57B577D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73E62-D8CC-42F9-8451-ECDE1BBA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18CC4-3461-4124-90E4-F542D7D0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59A74-A157-45DA-9A61-B5901723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D78E8-F56E-4C90-9158-5D2DFEC8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11740-4C74-48AD-814F-DC1A380B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FE7DCF-2286-4816-9F0C-79001047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2488C-BB5D-471A-9706-8964F300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8FD98-2580-4FC1-B4D8-42A0E7DA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91E0-32B2-4942-AE44-F215EE565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01FE25-2B43-4400-AF30-476FE482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22F7E-C862-4010-A37F-DE51A043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1EDF4-9E05-409A-A278-5829B7C1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65B64-6BF8-4FB7-872A-85184046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A4FB9-A4A4-4F64-BCE1-18FC0966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A7BF-AED5-4294-9A7C-88740F00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B2A9-987F-4CDD-A604-E86D6AB9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FB6D-DCC3-4812-AD44-D9BD8738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ACE5C-F60B-4C6D-8628-7B0694F0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E108-BB77-4258-B663-B965699D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BA92-B669-496C-85D7-913C4EA6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EC0B-28A7-46AB-9B70-2458C955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FDA2-B63F-40C8-A886-01868CE6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93E3-3DBC-42BC-8D37-F0A9F4CE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465F-20D7-45BA-B452-C6AEA13A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C5A-150B-4A90-81A9-D4382A396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C256-3DB8-4B54-8955-586D1214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AA112-D12A-418B-BD3C-ECD8CD6B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048CB-954D-458C-9648-8A1A1AF5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88DDB-C1C0-4A23-92EF-F15CF2AF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49EC-AB02-4A20-9CF6-E695823E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35E-BB20-471D-B8B4-4456763B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5D6AE-C0B2-4333-AF5F-A1CF6C4E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F08AF-01A2-480E-BE24-67CDBA95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E5AAB-8771-443C-8F79-D91EF87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3DA99-9B4B-45F2-A836-D788CE5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3071C-A376-4182-88A7-EA32A6F1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BF5E4-B9A1-483A-9A95-A30734A5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6D024-0944-4C81-A683-AA509641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75E72-C54D-4CB9-A99D-FD39F194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7FB13-983C-4E96-A013-7187ABC8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573BF-8026-49EC-B2BE-CAC293B2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F96E-2DB9-4500-B101-E4560AFF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8763-37DF-4FE9-A2CD-C3BCD21A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9BEBF-772B-42D4-9276-B444B9D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784C-3E42-4EF8-9014-75658759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4335-E05B-4343-A6C3-BB2B67E9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5CA0E-C555-47F8-A042-2CE194EB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990E5-60BC-4FE3-80BE-C29BA0F7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AF585-0729-4A5C-B06E-41FFEE62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ABF42-5031-440F-B64A-5A647983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7CEF-AF78-46BC-A276-F2698673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565A2-16CE-4375-AA60-5991ED8B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2683-B2AB-48CB-8FA5-C51CD7FC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C8FC-0782-4885-AE82-26803930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F137B-ECFB-459D-A4C9-B2B834FA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591BF-3108-4EB5-8DE5-6CE069D5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38010-3FD0-4B30-9A82-A635253E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62A22-31CA-41D8-B6C5-E9B1FAB6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CCBB0-1328-4ABE-888E-CEF95136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41FE-973D-4CD6-AF96-286BC27A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CC6D2-3B79-4B7A-8054-521103EB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549D0-43DF-417E-8A05-75E689F2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8891D-D0E7-4194-922C-FACFD6AF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060C-666E-45FE-9813-0C50B656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0A54D-3F04-4455-B305-EB8011E5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9697F-FC55-4794-B3D8-5C9A74B4E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346AB-6EE1-489C-AE9C-A3DE6423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E1C21-4652-47A7-9079-8C15F2E5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0DB22-7324-477C-BAC3-505259C3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46CC3-74A5-47CF-866F-D9FCAFF0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22CDB-AD07-46D0-B72F-0BED0662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1855-ED28-4EB9-943D-11F989B7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6EED6-4550-4D59-9AED-CCC6400D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8559-E54C-4157-8BC5-D379235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481E-D3FF-4D61-86C4-5B7A317D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AA791-45E7-4031-B94B-C390B1C0F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439BB-1C07-44CB-BD54-63798E4BE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F9A7-C72F-4BD2-8AB0-333124E1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AFBD5-CEB9-45BA-81D4-5679EF68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E19D5-1CF2-4B32-9EB6-A4B97975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B83B6-1CC6-4BC1-87F8-25C3EF03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31AFE-C3A8-4486-8FB0-786CE334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A419-393C-452A-B76D-1D062AEE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02A6B-9EDC-4CB4-BAA8-D466217F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EFBEB-25D8-472B-8798-C355D103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03D-C1D3-437D-8567-D5A3C9D0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5611B6-B46C-4900-86B0-A5923052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4AD5C-E244-41E4-AE05-658F4283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240F-73A9-4F20-9779-7A7140A5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27BA2-D92D-4959-9043-DBC6E18B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E5CCB-D3D0-4D41-8A55-6CEEABC9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F6254-C853-4A84-9AAD-E74AC065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20AF7-78A7-49C7-B2E1-2AF4D7B3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8D730-7048-417A-A43F-F3722E52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D0FB1-B50D-4A4D-9E17-D70BAD74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9503C-6566-467A-BB1B-39822FC5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71A-8B71-40B6-B4A5-04AB74B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C7B82-6C20-4B66-9E80-4C6F2FAF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C8428-FC43-418E-BC01-43AD14D1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BA29-2CDB-4A7B-ACF8-085429BE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60529-2AB7-4BED-B810-64CAFDA2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2698C-003E-4902-91BA-68690A851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7322E-5D3A-4A84-8B7E-C1533BD67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C6AB5-095B-48A4-B53F-D80182289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8E5E8-5CEE-43D3-BDC4-67F5C34A1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653EE-3118-4746-8F43-70C1A9F0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0F240-96B6-4F17-BEA9-E70BA787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9C3-0BEC-41AA-9137-F27298F2335C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6ACA-B7A1-41E8-80D0-D1550A99C61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9F30-2DBA-4FF3-ABA4-A47BA420F7F0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2DC3-7253-4678-BB7B-B5D49B3A51C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3116-E764-4C20-92B3-0B5C63CB6B9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DB4-8B59-4C51-B129-21107912B12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AC0F-B152-4445-B194-B73E8442C799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0210-2353-4677-B732-F035D3F027E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lack_on_white_world_map.gif"/>
          <p:cNvPicPr/>
          <p:nvPr/>
        </p:nvPicPr>
        <p:blipFill>
          <a:blip r:embed="rId2"/>
          <a:stretch/>
        </p:blipFill>
        <p:spPr>
          <a:xfrm>
            <a:off x="4143240" y="843120"/>
            <a:ext cx="4429440" cy="3085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3643200"/>
            <a:ext cx="9144000" cy="3214800"/>
          </a:xfrm>
          <a:prstGeom prst="rect">
            <a:avLst/>
          </a:prstGeom>
          <a:gradFill rotWithShape="0">
            <a:gsLst>
              <a:gs pos="0">
                <a:srgbClr val="344974"/>
              </a:gs>
              <a:gs pos="100000">
                <a:srgbClr val="2638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785880"/>
            <a:ext cx="9144000" cy="28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12840" y="712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rb.png"/>
          <p:cNvPicPr/>
          <p:nvPr/>
        </p:nvPicPr>
        <p:blipFill>
          <a:blip r:embed="rId3"/>
          <a:stretch/>
        </p:blipFill>
        <p:spPr>
          <a:xfrm>
            <a:off x="4376880" y="103320"/>
            <a:ext cx="46980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5216760" y="8424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57192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3500280"/>
            <a:ext cx="9144000" cy="214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znakposgrad.png"/>
          <p:cNvPicPr/>
          <p:nvPr/>
        </p:nvPicPr>
        <p:blipFill>
          <a:blip r:embed="rId4"/>
          <a:stretch/>
        </p:blipFill>
        <p:spPr>
          <a:xfrm>
            <a:off x="0" y="2560680"/>
            <a:ext cx="3067200" cy="229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28DF-98B7-4B47-9CFE-B8BFFC338AD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E9C99-EB4B-44C6-9FA2-27FFF93C6F9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00040" y="0"/>
            <a:ext cx="35712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760" y="0"/>
            <a:ext cx="712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C0D3-7157-489C-B72F-E641440DAAF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C67-D57E-4E35-9A3D-09E37FDCD84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2A01-F0F7-411A-A7A2-97898773EA8B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311F-FF5F-4BDD-B538-CFC8FC4C883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161B-51A8-45EC-B729-6E3FAC7D250F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8E7C-3A80-4915-9C7D-7FB001B633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8EBA-AECC-41FA-B9DF-CDC183D0D010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F597-38A6-4A91-B0E3-00476E3081C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A586-E2CD-4854-A29C-72E5CA040C2C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2F66-BA42-4873-9DA2-598A546EE4C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D590-8C7B-40BB-8C26-35DEDB409435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7588-1084-4989-8B5B-2787B1AD454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1A19-3BAA-4C2E-BA6C-82FCED1B88C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A4CF-F9F1-4578-8452-D699EFEFB67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ubina.ligata@bhas.b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7640" y="1052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bs-BA" sz="4400" spc="-1" strike="noStrike">
                <a:solidFill>
                  <a:srgbClr val="595959"/>
                </a:solidFill>
                <a:latin typeface="Arabic Typesetting"/>
                <a:ea typeface="Arabic Typesetting"/>
              </a:rPr>
              <a:t>Contribution to Geospatial Analysis of Household Survey Data in Bosnia and Herzegovin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250920" y="5516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Workshop on Data Integration: Realising the Potential of Statistical and Geospati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Belgrad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Serb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233440" y="3714840"/>
            <a:ext cx="64818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din Šabanović, 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ector for Statistical Methodology, Standards, Planning, Quality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gency for Statistics of Bosnia and Herzeg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Calibri"/>
              </a:rPr>
              <a:t>User`s needs for socio-economic indicators in BiH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 one of these household-based surve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provide indicators at levels of data disaggregation, which are lower than Bosnian entities, because of limited sample si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SMS 2011: 5,002 HHs; LSMS 2004: 3000 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 c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ca 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are user`s needs for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ocio-economic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lower levels of geospatial and administrative organization of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P projects related to the regional disparity assessment in Bosnia and Herzegovina in 2010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1ED6-66A5-45BD-8345-244C87BB3E5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1)</a:t>
            </a:r>
            <a:br>
              <a:rPr sz="24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0920" y="764640"/>
            <a:ext cx="8281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poverty indicators are selected from 2015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household 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individu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ee main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mployment indicators were 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cted from 2015 L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dicators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sented at level of 17 Bosnian cantons, regions o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cGiS Ver. 10.0 and QGIS are used for geospatial dis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D864-95DE-458F-B905-C9CCB9BA7F5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0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2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020600"/>
            <a:ext cx="84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ADE2-39ED-4208-B5A9-68C3C864F22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1116000" y="1020600"/>
            <a:ext cx="74167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3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11280" y="691920"/>
            <a:ext cx="8175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3E7C-F98A-409F-9124-5295FB4DCBEA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611280" y="115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</a:t>
            </a:r>
            <a:br>
              <a:rPr sz="2000"/>
            </a:b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8066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Description: Inline image"/>
          <p:cNvPicPr/>
          <p:nvPr/>
        </p:nvPicPr>
        <p:blipFill>
          <a:blip r:embed="rId1"/>
          <a:stretch/>
        </p:blipFill>
        <p:spPr>
          <a:xfrm>
            <a:off x="900000" y="981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6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36480" y="549360"/>
            <a:ext cx="8820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1"/>
          <a:stretch/>
        </p:blipFill>
        <p:spPr>
          <a:xfrm>
            <a:off x="431640" y="685800"/>
            <a:ext cx="87854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8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31640" y="701640"/>
            <a:ext cx="8785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4000" y="531720"/>
            <a:ext cx="8280360" cy="60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aper opened a question of the production of socio-economic indicators at sub-entity level in B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nceasing user`s need for subnational and sub-entity statistical data on living standards, poverty and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imitation of household surveys for providing of such kind of disaggregated statistic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s for sophisticated statistical techniques, which can combine survey data with those coming from population c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re-condition for the use of such techniques is that survey samples were selected from the census sampling frame, which is still not done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w sampling frame in following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work of statistician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s for geospatial presentations of statistical data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Arial"/>
              </a:rPr>
              <a:t>Conclusions and future ste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59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1" lang="bs-BA" sz="3000" spc="-1" strike="noStrike">
                <a:solidFill>
                  <a:srgbClr val="000000"/>
                </a:solidFill>
                <a:latin typeface="Calibri"/>
                <a:ea typeface="Arial"/>
              </a:rPr>
              <a:t>ont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764640"/>
            <a:ext cx="8532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overty and employment in Bosnia and Herzegovina - Evidence from household surve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 and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F891-71DE-4EA8-B88F-67FB5384662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 for the attention</a:t>
            </a:r>
            <a:r>
              <a:rPr b="1" lang="bs-BA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Edin Šabano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din.sabanovic@bhas.gov. b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190E-4E7F-4661-B134-4D4CD06F2D1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still one of the most pervasive problems in the overall hum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Millions of people live in extreme poverty, i.e. with less than the international poverty line of US$1.90 a day or making just a little more than this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s 2030 treat this problem with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 1-No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multidimensional phenomenon and consists of various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8CCCB-3790-4DDC-A732-643D01A4247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Employment status is one of the most important components, because it most affects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The highest poverty rates in 2015 in BiH were among unable to work (38.5%) and unemployed persons (26.2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nemployed persons in EU-28 faced a particularly high risk of poverty or social exclusion (67.0 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1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928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st poverty assessment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Bosnia and Herzegovina w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de in 2001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nd 200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ving Standards Measurement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S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orld Bank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absolut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used as a monetary measure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produc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 Coun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Gini coeffici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rty Ga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Gini coefficient using OECD sc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ity of Poverty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) Theil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v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fall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) Entropy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) S9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) S5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) S90/S50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C35F-94F1-4496-946E-B687ECACAE5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2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000" y="119664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poverty and inequality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 and mixed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isplacement statu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adults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s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5907-05EB-41F3-907A-CCA645E2ABC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3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0920" y="1125360"/>
            <a:ext cx="8218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ince 2004,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Household Budget Surve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HBS) was designed for measuring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uropean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relativ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of households by COICOP was used as a monetary measure of well-b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calcul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household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individual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S80/S20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 was conducted four times: 2004, 2007, 2011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A433-C5D5-4FD3-BFF7-609AEC50B8E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4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000" y="620640"/>
            <a:ext cx="84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these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 and Brcko district BiH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household member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 of household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20F9-B9DD-40A7-A202-893C3EA6B26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Employment in BiH - Evidence from LF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ull-sca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bor Force Surv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ducted in 2006 and it was launched as regul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nual cross-sectional household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ing basic labor force indicators in line with definitions of the International Labor Organization (IL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used indicators of the employment of Bosnian population from labor force surveys ar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above mentioned indicators were disaggregated by regions (Bosnian entities), 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, sex,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ducation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of respon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C384-FE6C-4B8D-B252-C0E90625A1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1:53:10Z</dcterms:created>
  <dc:creator>xy</dc:creator>
  <dc:description/>
  <dc:language>en-US</dc:language>
  <cp:lastModifiedBy>Edin Sabanovic</cp:lastModifiedBy>
  <dcterms:modified xsi:type="dcterms:W3CDTF">2019-05-10T11:29:34Z</dcterms:modified>
  <cp:revision>295</cp:revision>
  <dc:subject/>
  <dc:title>Slide 1</dc:title>
</cp:coreProperties>
</file>