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859-B0E2-499C-88B9-5150856E4D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F78E-F548-48C4-8318-325ABBCCD1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5C6C-D89A-4C6D-8C7A-86312F452E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building: Regional programmes; Statistical Institute for Asia and the Pacific; ESCAP regional institutions; Global Working Group on Use of Big Data for Official Statistics; Global Partnership for Sustainable Developmen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1946-DCF9-401C-9FDE-B8DEA40AC8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692-7AD9-43AB-B231-5E94B8751D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pacity building in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DB09-4DB6-414F-B44A-DB7C838FA7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emented in cooperation by development partners and national statistical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7EC-0FF4-4F25-A564-603415FFAA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that the Core Set is in the broch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BA76-E499-47F1-8675-3AAFE70834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CAP’s activities are financed by Russian Federation and UK DFID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ly being implemented in the Maldives, Cambodia, Lao PDR, Sri Lanka and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3F85-8B54-4ABC-A217-DE1BDECD6A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EDE7-96BD-43A5-B70B-6C3C0C9E3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DF7E-8C27-418D-B12F-5EF7BD297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5595-95E4-4F11-B18A-8E82F3C80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477D-427E-4FAC-9F5C-E160E8D77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7A6C-B4CF-4204-8000-AD42EE2EB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1EA0-3F81-4B10-B577-BC61A86A2C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41A9-6B70-442E-B3B6-AE413B11B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647A-4DA9-4972-ADF9-7EB76194D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61C5-1547-4163-8C21-E3301ECE73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E4D4-B7B3-4D85-AFAA-92F092098C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804D-E1B0-49BF-B674-8FB4E6DEF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6DC8-B180-4527-A388-80CB1BABE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74AA-2E8A-44EC-89EC-3DEB281114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4383-3549-4829-B849-6E486A579B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7023-E5A6-4F09-BAD3-0B0C35F2E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CA8D-FE86-4A76-807B-FF7F911097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7DED-77ED-4465-B939-85F76CA85B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911-E786-44DA-9DB6-D8DC3315EE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DA4-A0D9-42CB-A6C5-FA6103E696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4CA-B36A-4835-8554-E3FF6567E0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970-6B6A-4014-9B43-54EE5C8805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44E-D80A-46D6-B1D4-46B35B9E9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67C7-A65F-4A3C-8D78-0819950192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690-16F3-4C8A-BAB3-74AF7CBE26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FA0-C4EF-42EE-87A5-6F9AB58EBB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B67-152C-4ACF-8156-6D5386F6BB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E0C-C4E0-45EC-89DA-2438E9B22D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80D-0BEC-4B58-B2BA-324DA3499C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7FF-7736-4D51-8136-A020208DB9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CAC-102F-4BC6-905D-FAE19A7524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AB62A-9287-4C3E-B03F-D423DB6645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C53C2-07F4-4080-8E4E-1257D70B1B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18728-2C16-4312-B775-DCBE4F068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0280-CA19-4721-89F0-0CAEB20A00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1FD29-24C8-444C-A621-28B84FA713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1EB98-E865-4C45-A760-C13B544226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7A0A1-3756-4CD7-9023-0EFFFFE190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6D0E6-C71B-4BCF-9239-AB1921F657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FD6F1-787E-4368-94A6-9EFF0D4890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29AF2-F511-4AC7-974A-E3957B31E7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BF0A9-79E0-46B1-BF25-FED66855CC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08B92-802D-4133-9948-9DEF0F7C24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1AB4F-C3B1-4314-8D14-82DDF5A9712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E60CB-1B65-4BC6-9A49-9B2407C0F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C1B0-9073-4930-97EE-6851A9FD0C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CAC2B-A764-47A0-BEC4-021D794921B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1399-923E-4327-B09B-372237F375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C8DAA-E818-4699-B0E9-F39CA0506E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EA37C-BDCB-49D5-99FF-930C2D01D0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2073-FD6F-48A0-9CE2-E5D1446824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E34AE-BB0C-42F3-A564-7216FC784B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AC17A-FB0E-43DA-B650-428D2FE98D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AF17D-46FE-4D95-A675-B68747D50C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AE704-F939-4E10-B101-BEFF962952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160F9-218C-451E-B149-78DDCB299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C49C-7D21-4D6D-803F-92054BF715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A1F57-FE52-4C11-9828-0DCB8F1E1C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AD7B-C21D-4A13-9322-62FF178F26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75D7-3334-46C4-BD45-3E5B759EC26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7218-F4EC-4BF3-84B3-05FA810F69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DAEF-A8BD-46C1-9D35-E94541A4D6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FE15-BAA0-4E49-A1D2-F26EA8E4C0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D23A-51B1-4B95-99B4-5E81612A56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4D11-C962-4CF7-8263-F88B47F518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A815-C2D1-4A90-B487-040AE8519A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3218-F277-4FA9-882B-FB7E8F8AC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22AB-291E-48C2-AD32-AA6D264C3A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8220-86EE-45BD-8C13-B2E6834590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29FA-70B0-4BBA-83E5-04CF79EDD2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2A90-46D8-41F8-A236-5E311D88B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C7EF-132E-48D9-84CB-47DA1F9DB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DF6E-0132-496A-B504-2F2731991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3A1-6D6D-4F02-85EE-4793E3768D92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8"/>
          <p:cNvSpPr/>
          <p:nvPr/>
        </p:nvSpPr>
        <p:spPr>
          <a:xfrm>
            <a:off x="1547640" y="515772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9"/>
          <p:cNvSpPr/>
          <p:nvPr/>
        </p:nvSpPr>
        <p:spPr>
          <a:xfrm>
            <a:off x="1671480" y="4960800"/>
            <a:ext cx="21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8"/>
          <p:cNvSpPr/>
          <p:nvPr/>
        </p:nvSpPr>
        <p:spPr>
          <a:xfrm>
            <a:off x="3543480" y="6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5040" y="6116400"/>
            <a:ext cx="498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50C8-81E1-499F-A4C9-E410E024F03C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9410-6BB0-47FC-ADBC-1C672321257F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4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09D-7A72-4DCA-950D-3C05E0216D70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5"/>
          </p:nvPr>
        </p:nvSpPr>
        <p:spPr>
          <a:xfrm>
            <a:off x="-360" y="65120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035A-C611-4A2C-9915-904072BCDC7D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23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6"/>
          </p:nvPr>
        </p:nvSpPr>
        <p:spPr>
          <a:xfrm>
            <a:off x="-360" y="6597360"/>
            <a:ext cx="539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DAE8-7C92-4641-BEAB-35EF310E0D3B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nescap.org/resources/stats-brief-february-issue-no-13-developing-guidance-harmonized-basic-range-disaster" TargetMode="External"/><Relationship Id="rId2" Type="http://schemas.openxmlformats.org/officeDocument/2006/relationships/hyperlink" Target="http://www.unescap.org/sites/default/files/SD_Working_Paper_Sep2016_Business_Demography_Statistics.pd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174276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4b50"/>
                </a:solidFill>
                <a:latin typeface="Century Gothic"/>
              </a:rPr>
              <a:t>Regional initiatives in support of  Statistical Capacity  Development in Asia-Pacific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Alick Mjuma Nyasulu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ESCAP, Statistics Division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13</a:t>
            </a:r>
            <a:r>
              <a:rPr b="1" lang="en-GB" sz="1200" spc="-1" strike="noStrike" baseline="30000">
                <a:solidFill>
                  <a:srgbClr val="224b50"/>
                </a:solidFill>
                <a:latin typeface="Century Gothic"/>
              </a:rPr>
              <a:t>th</a:t>
            </a: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 SPECA Working Group on Statistics</a:t>
            </a: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Shymkent Kazakhstan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1-3 October 2018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56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is placed at the center for monitoring and review of the SDG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4000" y="1628280"/>
            <a:ext cx="8485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ESCAP’s annual Commission sessions focus on SDG-related issues, e.g.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Annual Asia-Pacific Forum for Sustainable Development (APFSD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data user-producer forum important to raise awareness of statistical issues (e.g. in policy community) and policy priorities (among producers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Roadmap for implementing the 2030 Agenda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50560" y="981000"/>
            <a:ext cx="90262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Biennial meeting place for leaders of NS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High level of interaction with member countries during and between session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Have guided regional/subregional consultations on statistics &amp; data in support of global &amp; regional monitoring (IAEG &amp; HLG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Will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support integration of SDGs monitoring &amp; statistics/data in national development plans (Collective Vision and subregional workshop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Committee on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8"/>
          <p:cNvSpPr/>
          <p:nvPr/>
        </p:nvSpPr>
        <p:spPr>
          <a:xfrm>
            <a:off x="0" y="3124080"/>
            <a:ext cx="4440240" cy="2895840"/>
          </a:xfrm>
          <a:prstGeom prst="rect">
            <a:avLst/>
          </a:prstGeom>
          <a:solidFill>
            <a:srgbClr val="ffcc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rmativ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4440240" y="0"/>
            <a:ext cx="4703760" cy="3124080"/>
          </a:xfrm>
          <a:prstGeom prst="rect">
            <a:avLst/>
          </a:prstGeom>
          <a:solidFill>
            <a:srgbClr val="ffffa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nalytical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1"/>
          <p:cNvSpPr/>
          <p:nvPr/>
        </p:nvSpPr>
        <p:spPr>
          <a:xfrm>
            <a:off x="4440240" y="3124080"/>
            <a:ext cx="4703760" cy="2895840"/>
          </a:xfrm>
          <a:prstGeom prst="rect">
            <a:avLst/>
          </a:prstGeom>
          <a:solidFill>
            <a:srgbClr val="d6ed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 a t a b a 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0" y="0"/>
            <a:ext cx="4440240" cy="3124080"/>
          </a:xfrm>
          <a:prstGeom prst="rect">
            <a:avLst/>
          </a:prstGeom>
          <a:solidFill>
            <a:srgbClr val="afea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1143000" y="4735440"/>
            <a:ext cx="2046240" cy="434880"/>
          </a:xfrm>
          <a:prstGeom prst="rect">
            <a:avLst/>
          </a:prstGeom>
          <a:solidFill>
            <a:srgbClr val="ffc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production of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1050840" y="617400"/>
            <a:ext cx="2378160" cy="820800"/>
          </a:xfrm>
          <a:prstGeom prst="rect">
            <a:avLst/>
          </a:prstGeom>
          <a:solidFill>
            <a:srgbClr val="af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member States to strengthen their institutional and technical capacity to produce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5783400" y="685800"/>
            <a:ext cx="2317680" cy="70632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development evidence-based discussions in intergovernmental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5859360" y="4735440"/>
            <a:ext cx="1989360" cy="750960"/>
          </a:xfrm>
          <a:prstGeom prst="rect">
            <a:avLst/>
          </a:prstGeom>
          <a:solidFill>
            <a:srgbClr val="d6e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building, analytical research, and regional policy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120600" y="3200400"/>
            <a:ext cx="2201760" cy="64152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Core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lobal Working Groups and City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477120" y="3292560"/>
            <a:ext cx="2539800" cy="641520"/>
          </a:xfrm>
          <a:prstGeom prst="rect">
            <a:avLst/>
          </a:prstGeom>
          <a:solidFill>
            <a:srgbClr val="d6edbd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ia-Pacific Statistical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6400800" y="1949400"/>
            <a:ext cx="2616120" cy="8737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conomic &amp; Socia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 SDG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Stats Br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orking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35120" y="2583000"/>
            <a:ext cx="2144520" cy="126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바탕"/>
                <a:ea typeface="바탕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pillars of </a:t>
            </a:r>
            <a:br>
              <a:rPr sz="1200"/>
            </a:b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CAP Statistics Subprogramme</a:t>
            </a:r>
            <a:endParaRPr b="0" lang="en-US" sz="1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120600" y="2133720"/>
            <a:ext cx="2201760" cy="82404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I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raining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PS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provides a data hub for the region 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560" y="1981080"/>
            <a:ext cx="8504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The Statistical Database</a:t>
            </a: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 covers the region and contains over 600 data series on a wide range of topics on population, education, health, poverty and inequalities, gender, economy, environment and connectivity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Data being repackaged and presented in line with the SDG requirement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Rectangle 4"/>
          <p:cNvGrpSpPr/>
          <p:nvPr/>
        </p:nvGrpSpPr>
        <p:grpSpPr>
          <a:xfrm>
            <a:off x="-23760" y="-23760"/>
            <a:ext cx="9186840" cy="6900840"/>
            <a:chOff x="-23760" y="-23760"/>
            <a:chExt cx="9186840" cy="6900840"/>
          </a:xfrm>
        </p:grpSpPr>
        <p:pic>
          <p:nvPicPr>
            <p:cNvPr id="302" name="Rectangle 4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86840" cy="69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8"/>
          <p:cNvGrpSpPr/>
          <p:nvPr/>
        </p:nvGrpSpPr>
        <p:grpSpPr>
          <a:xfrm>
            <a:off x="1200240" y="4095720"/>
            <a:ext cx="7724520" cy="946080"/>
            <a:chOff x="1200240" y="4095720"/>
            <a:chExt cx="7724520" cy="946080"/>
          </a:xfrm>
        </p:grpSpPr>
        <p:pic>
          <p:nvPicPr>
            <p:cNvPr id="305" name="Rectangle 8" descr=""/>
            <p:cNvPicPr/>
            <p:nvPr/>
          </p:nvPicPr>
          <p:blipFill>
            <a:blip r:embed="rId2"/>
            <a:stretch/>
          </p:blipFill>
          <p:spPr>
            <a:xfrm>
              <a:off x="1200240" y="4095720"/>
              <a:ext cx="772452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219320" y="4114800"/>
              <a:ext cx="7696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Rectangle 10" descr=""/>
          <p:cNvPicPr/>
          <p:nvPr/>
        </p:nvPicPr>
        <p:blipFill>
          <a:blip r:embed="rId3"/>
          <a:stretch/>
        </p:blipFill>
        <p:spPr>
          <a:xfrm>
            <a:off x="353880" y="585720"/>
            <a:ext cx="579600" cy="3395880"/>
          </a:xfrm>
          <a:prstGeom prst="rect">
            <a:avLst/>
          </a:prstGeom>
          <a:ln w="0">
            <a:noFill/>
          </a:ln>
        </p:spPr>
      </p:pic>
      <p:grpSp>
        <p:nvGrpSpPr>
          <p:cNvPr id="308" name="Rectangle 11"/>
          <p:cNvGrpSpPr/>
          <p:nvPr/>
        </p:nvGrpSpPr>
        <p:grpSpPr>
          <a:xfrm>
            <a:off x="1195560" y="5230800"/>
            <a:ext cx="7740360" cy="1461960"/>
            <a:chOff x="1195560" y="5230800"/>
            <a:chExt cx="7740360" cy="1461960"/>
          </a:xfrm>
        </p:grpSpPr>
        <p:pic>
          <p:nvPicPr>
            <p:cNvPr id="309" name="Rectangle 11" descr=""/>
            <p:cNvPicPr/>
            <p:nvPr/>
          </p:nvPicPr>
          <p:blipFill>
            <a:blip r:embed="rId4"/>
            <a:stretch/>
          </p:blipFill>
          <p:spPr>
            <a:xfrm>
              <a:off x="1195560" y="5230800"/>
              <a:ext cx="77403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219320" y="5257800"/>
              <a:ext cx="769608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Rectangle 5"/>
          <p:cNvGrpSpPr/>
          <p:nvPr/>
        </p:nvGrpSpPr>
        <p:grpSpPr>
          <a:xfrm>
            <a:off x="1206360" y="590400"/>
            <a:ext cx="2159280" cy="3384720"/>
            <a:chOff x="1206360" y="590400"/>
            <a:chExt cx="2159280" cy="3384720"/>
          </a:xfrm>
        </p:grpSpPr>
        <p:pic>
          <p:nvPicPr>
            <p:cNvPr id="312" name="Rectangle 5" descr=""/>
            <p:cNvPicPr/>
            <p:nvPr/>
          </p:nvPicPr>
          <p:blipFill>
            <a:blip r:embed="rId5"/>
            <a:stretch/>
          </p:blipFill>
          <p:spPr>
            <a:xfrm>
              <a:off x="1206360" y="590400"/>
              <a:ext cx="21592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27240" y="609480"/>
              <a:ext cx="2125440" cy="33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Rectangle 16" descr=""/>
          <p:cNvPicPr/>
          <p:nvPr/>
        </p:nvPicPr>
        <p:blipFill>
          <a:blip r:embed="rId6"/>
          <a:stretch/>
        </p:blipFill>
        <p:spPr>
          <a:xfrm>
            <a:off x="1225440" y="171360"/>
            <a:ext cx="2140200" cy="37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9"/>
          <p:cNvSpPr/>
          <p:nvPr/>
        </p:nvSpPr>
        <p:spPr>
          <a:xfrm>
            <a:off x="1349280" y="762120"/>
            <a:ext cx="1676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Programme on Economic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Agricultural and Rur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Rectangle 6"/>
          <p:cNvGrpSpPr/>
          <p:nvPr/>
        </p:nvGrpSpPr>
        <p:grpSpPr>
          <a:xfrm>
            <a:off x="3943440" y="590400"/>
            <a:ext cx="2244600" cy="3365640"/>
            <a:chOff x="3943440" y="590400"/>
            <a:chExt cx="2244600" cy="3365640"/>
          </a:xfrm>
        </p:grpSpPr>
        <p:pic>
          <p:nvPicPr>
            <p:cNvPr id="317" name="Rectangle 6" descr=""/>
            <p:cNvPicPr/>
            <p:nvPr/>
          </p:nvPicPr>
          <p:blipFill>
            <a:blip r:embed="rId7"/>
            <a:stretch/>
          </p:blipFill>
          <p:spPr>
            <a:xfrm>
              <a:off x="3943440" y="590400"/>
              <a:ext cx="224460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962520" y="609480"/>
              <a:ext cx="2209680" cy="33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Rectangle 17" descr=""/>
          <p:cNvPicPr/>
          <p:nvPr/>
        </p:nvPicPr>
        <p:blipFill>
          <a:blip r:embed="rId8"/>
          <a:stretch/>
        </p:blipFill>
        <p:spPr>
          <a:xfrm>
            <a:off x="3943440" y="171360"/>
            <a:ext cx="2244600" cy="3891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0"/>
          <p:cNvSpPr/>
          <p:nvPr/>
        </p:nvSpPr>
        <p:spPr>
          <a:xfrm>
            <a:off x="4191120" y="762120"/>
            <a:ext cx="175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Population and Soci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CR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Rectangle 18" descr=""/>
          <p:cNvPicPr/>
          <p:nvPr/>
        </p:nvPicPr>
        <p:blipFill>
          <a:blip r:embed="rId9"/>
          <a:stretch/>
        </p:blipFill>
        <p:spPr>
          <a:xfrm>
            <a:off x="6838920" y="165240"/>
            <a:ext cx="2085840" cy="3841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1"/>
          <p:cNvSpPr/>
          <p:nvPr/>
        </p:nvSpPr>
        <p:spPr>
          <a:xfrm>
            <a:off x="6858000" y="636480"/>
            <a:ext cx="2057400" cy="243828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Modular and integration-focused approach for environ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isaster-related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28800" y="4267080"/>
          <a:ext cx="6400800" cy="596880"/>
        </p:xfrm>
        <a:graphic>
          <a:graphicData uri="http://schemas.openxmlformats.org/drawingml/2006/table">
            <a:tbl>
              <a:tblPr/>
              <a:tblGrid>
                <a:gridCol w="3429000"/>
                <a:gridCol w="29718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rnization of statistical production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nd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Rectangle 27" descr=""/>
          <p:cNvPicPr/>
          <p:nvPr/>
        </p:nvPicPr>
        <p:blipFill>
          <a:blip r:embed="rId10"/>
          <a:stretch/>
        </p:blipFill>
        <p:spPr>
          <a:xfrm>
            <a:off x="324000" y="4091040"/>
            <a:ext cx="60948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1211400" y="5257800"/>
          <a:ext cx="761976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35049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eering Group for the Regional Programme on Economic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Agricultur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Civil Registration and Vital Statistics in Asia and the Pacif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chnical Advisory Group on Population and Soci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he Coordination of Statistical Training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ners for Statistics Development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Rectangle 31" descr=""/>
          <p:cNvPicPr/>
          <p:nvPr/>
        </p:nvPicPr>
        <p:blipFill>
          <a:blip r:embed="rId11"/>
          <a:stretch/>
        </p:blipFill>
        <p:spPr>
          <a:xfrm>
            <a:off x="353880" y="5211720"/>
            <a:ext cx="5796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10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The case of Economic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8000" y="907560"/>
            <a:ext cx="87012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Multi-year Regional Programme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on Economic Statistics embedded in the intergovernmental proce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Guided by </a:t>
            </a: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Steering Group for RP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(heads of macroeconomic statistics departments from NSOs and CBs and international organization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4 Task Forc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leading the work on Capacity Screening Round II, Statistical Business Registers, Quality Assurance Frameworks for Economic Statistics and the substantive organization of the Asia-Pacific Economic Statistics Week 2018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itle 1"/>
          <p:cNvSpPr/>
          <p:nvPr/>
        </p:nvSpPr>
        <p:spPr>
          <a:xfrm>
            <a:off x="30492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PES outputs organized in 4 categories to deliver an inspiring 2020 vision and measurabl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04920" y="1611720"/>
            <a:ext cx="34290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4 categories of outputs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724280" y="1368360"/>
            <a:ext cx="3584520" cy="66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to deliver our 2020 common vis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4724280" y="3659760"/>
            <a:ext cx="358164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and reach our key goal of R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304920" y="2438280"/>
            <a:ext cx="3508200" cy="3494160"/>
            <a:chOff x="304920" y="2438280"/>
            <a:chExt cx="3508200" cy="3494160"/>
          </a:xfrm>
        </p:grpSpPr>
        <p:sp>
          <p:nvSpPr>
            <p:cNvPr id="334" name="clipart_4puzzlepieces"/>
            <p:cNvSpPr/>
            <p:nvPr/>
          </p:nvSpPr>
          <p:spPr>
            <a:xfrm>
              <a:off x="1989000" y="2438280"/>
              <a:ext cx="1814400" cy="18748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499" h="500">
                  <a:moveTo>
                    <a:pt x="499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"/>
                    <a:pt x="13" y="3"/>
                    <a:pt x="13" y="5"/>
                  </a:cubicBezTo>
                  <a:cubicBezTo>
                    <a:pt x="11" y="13"/>
                    <a:pt x="10" y="22"/>
                    <a:pt x="9" y="30"/>
                  </a:cubicBezTo>
                  <a:cubicBezTo>
                    <a:pt x="6" y="49"/>
                    <a:pt x="4" y="68"/>
                    <a:pt x="2" y="86"/>
                  </a:cubicBezTo>
                  <a:cubicBezTo>
                    <a:pt x="2" y="90"/>
                    <a:pt x="2" y="93"/>
                    <a:pt x="1" y="97"/>
                  </a:cubicBezTo>
                  <a:cubicBezTo>
                    <a:pt x="1" y="109"/>
                    <a:pt x="0" y="121"/>
                    <a:pt x="0" y="134"/>
                  </a:cubicBezTo>
                  <a:cubicBezTo>
                    <a:pt x="0" y="135"/>
                    <a:pt x="0" y="136"/>
                    <a:pt x="0" y="137"/>
                  </a:cubicBezTo>
                  <a:cubicBezTo>
                    <a:pt x="0" y="153"/>
                    <a:pt x="7" y="162"/>
                    <a:pt x="20" y="170"/>
                  </a:cubicBezTo>
                  <a:cubicBezTo>
                    <a:pt x="32" y="177"/>
                    <a:pt x="47" y="179"/>
                    <a:pt x="60" y="179"/>
                  </a:cubicBezTo>
                  <a:cubicBezTo>
                    <a:pt x="79" y="178"/>
                    <a:pt x="90" y="170"/>
                    <a:pt x="105" y="160"/>
                  </a:cubicBezTo>
                  <a:cubicBezTo>
                    <a:pt x="148" y="131"/>
                    <a:pt x="205" y="178"/>
                    <a:pt x="198" y="226"/>
                  </a:cubicBezTo>
                  <a:cubicBezTo>
                    <a:pt x="195" y="249"/>
                    <a:pt x="177" y="264"/>
                    <a:pt x="155" y="271"/>
                  </a:cubicBezTo>
                  <a:cubicBezTo>
                    <a:pt x="145" y="274"/>
                    <a:pt x="135" y="276"/>
                    <a:pt x="124" y="272"/>
                  </a:cubicBezTo>
                  <a:cubicBezTo>
                    <a:pt x="111" y="269"/>
                    <a:pt x="104" y="261"/>
                    <a:pt x="95" y="252"/>
                  </a:cubicBezTo>
                  <a:cubicBezTo>
                    <a:pt x="76" y="234"/>
                    <a:pt x="49" y="240"/>
                    <a:pt x="30" y="255"/>
                  </a:cubicBezTo>
                  <a:cubicBezTo>
                    <a:pt x="19" y="263"/>
                    <a:pt x="12" y="273"/>
                    <a:pt x="8" y="285"/>
                  </a:cubicBezTo>
                  <a:cubicBezTo>
                    <a:pt x="5" y="293"/>
                    <a:pt x="4" y="302"/>
                    <a:pt x="5" y="312"/>
                  </a:cubicBezTo>
                  <a:cubicBezTo>
                    <a:pt x="5" y="313"/>
                    <a:pt x="5" y="313"/>
                    <a:pt x="5" y="314"/>
                  </a:cubicBezTo>
                  <a:cubicBezTo>
                    <a:pt x="6" y="343"/>
                    <a:pt x="14" y="372"/>
                    <a:pt x="19" y="401"/>
                  </a:cubicBezTo>
                  <a:cubicBezTo>
                    <a:pt x="21" y="415"/>
                    <a:pt x="22" y="430"/>
                    <a:pt x="22" y="445"/>
                  </a:cubicBezTo>
                  <a:cubicBezTo>
                    <a:pt x="22" y="449"/>
                    <a:pt x="22" y="453"/>
                    <a:pt x="22" y="457"/>
                  </a:cubicBezTo>
                  <a:cubicBezTo>
                    <a:pt x="21" y="461"/>
                    <a:pt x="21" y="466"/>
                    <a:pt x="19" y="470"/>
                  </a:cubicBezTo>
                  <a:cubicBezTo>
                    <a:pt x="18" y="473"/>
                    <a:pt x="16" y="476"/>
                    <a:pt x="15" y="478"/>
                  </a:cubicBezTo>
                  <a:cubicBezTo>
                    <a:pt x="62" y="470"/>
                    <a:pt x="116" y="454"/>
                    <a:pt x="163" y="471"/>
                  </a:cubicBezTo>
                  <a:cubicBezTo>
                    <a:pt x="184" y="479"/>
                    <a:pt x="215" y="487"/>
                    <a:pt x="229" y="463"/>
                  </a:cubicBezTo>
                  <a:cubicBezTo>
                    <a:pt x="237" y="449"/>
                    <a:pt x="231" y="435"/>
                    <a:pt x="222" y="423"/>
                  </a:cubicBezTo>
                  <a:cubicBezTo>
                    <a:pt x="215" y="412"/>
                    <a:pt x="207" y="402"/>
                    <a:pt x="203" y="392"/>
                  </a:cubicBezTo>
                  <a:cubicBezTo>
                    <a:pt x="202" y="390"/>
                    <a:pt x="201" y="387"/>
                    <a:pt x="200" y="384"/>
                  </a:cubicBezTo>
                  <a:cubicBezTo>
                    <a:pt x="194" y="361"/>
                    <a:pt x="196" y="334"/>
                    <a:pt x="213" y="316"/>
                  </a:cubicBezTo>
                  <a:cubicBezTo>
                    <a:pt x="232" y="296"/>
                    <a:pt x="264" y="295"/>
                    <a:pt x="289" y="302"/>
                  </a:cubicBezTo>
                  <a:cubicBezTo>
                    <a:pt x="315" y="309"/>
                    <a:pt x="335" y="328"/>
                    <a:pt x="337" y="357"/>
                  </a:cubicBezTo>
                  <a:cubicBezTo>
                    <a:pt x="338" y="370"/>
                    <a:pt x="334" y="386"/>
                    <a:pt x="327" y="397"/>
                  </a:cubicBezTo>
                  <a:cubicBezTo>
                    <a:pt x="320" y="411"/>
                    <a:pt x="307" y="421"/>
                    <a:pt x="299" y="434"/>
                  </a:cubicBezTo>
                  <a:cubicBezTo>
                    <a:pt x="268" y="488"/>
                    <a:pt x="416" y="500"/>
                    <a:pt x="445" y="499"/>
                  </a:cubicBezTo>
                  <a:cubicBezTo>
                    <a:pt x="460" y="497"/>
                    <a:pt x="475" y="494"/>
                    <a:pt x="490" y="489"/>
                  </a:cubicBezTo>
                  <a:cubicBezTo>
                    <a:pt x="493" y="488"/>
                    <a:pt x="496" y="487"/>
                    <a:pt x="499" y="485"/>
                  </a:cubicBezTo>
                  <a:lnTo>
                    <a:pt x="4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clipart_4puzzlepieces"/>
            <p:cNvSpPr/>
            <p:nvPr/>
          </p:nvSpPr>
          <p:spPr>
            <a:xfrm>
              <a:off x="1414440" y="3543120"/>
              <a:ext cx="2388960" cy="2386080"/>
            </a:xfrm>
            <a:custGeom>
              <a:avLst/>
              <a:gdLst>
                <a:gd name="textAreaLeft" fmla="*/ 0 w 2388960"/>
                <a:gd name="textAreaRight" fmla="*/ 2389320 w 2388960"/>
                <a:gd name="textAreaTop" fmla="*/ 0 h 2386080"/>
                <a:gd name="textAreaBottom" fmla="*/ 2386080 h 2386080"/>
              </a:gdLst>
              <a:ahLst/>
              <a:rect l="textAreaLeft" t="textAreaTop" r="textAreaRight" b="textAreaBottom"/>
              <a:pathLst>
                <a:path w="659" h="636">
                  <a:moveTo>
                    <a:pt x="52" y="476"/>
                  </a:moveTo>
                  <a:cubicBezTo>
                    <a:pt x="84" y="480"/>
                    <a:pt x="111" y="462"/>
                    <a:pt x="142" y="459"/>
                  </a:cubicBezTo>
                  <a:cubicBezTo>
                    <a:pt x="164" y="457"/>
                    <a:pt x="172" y="484"/>
                    <a:pt x="177" y="502"/>
                  </a:cubicBezTo>
                  <a:cubicBezTo>
                    <a:pt x="186" y="532"/>
                    <a:pt x="188" y="564"/>
                    <a:pt x="185" y="596"/>
                  </a:cubicBezTo>
                  <a:cubicBezTo>
                    <a:pt x="184" y="609"/>
                    <a:pt x="181" y="623"/>
                    <a:pt x="177" y="636"/>
                  </a:cubicBezTo>
                  <a:cubicBezTo>
                    <a:pt x="659" y="636"/>
                    <a:pt x="659" y="636"/>
                    <a:pt x="659" y="636"/>
                  </a:cubicBezTo>
                  <a:cubicBezTo>
                    <a:pt x="659" y="190"/>
                    <a:pt x="659" y="190"/>
                    <a:pt x="659" y="190"/>
                  </a:cubicBezTo>
                  <a:cubicBezTo>
                    <a:pt x="655" y="191"/>
                    <a:pt x="652" y="193"/>
                    <a:pt x="648" y="194"/>
                  </a:cubicBezTo>
                  <a:cubicBezTo>
                    <a:pt x="633" y="199"/>
                    <a:pt x="618" y="202"/>
                    <a:pt x="603" y="204"/>
                  </a:cubicBezTo>
                  <a:cubicBezTo>
                    <a:pt x="574" y="205"/>
                    <a:pt x="426" y="193"/>
                    <a:pt x="457" y="139"/>
                  </a:cubicBezTo>
                  <a:cubicBezTo>
                    <a:pt x="465" y="126"/>
                    <a:pt x="478" y="116"/>
                    <a:pt x="485" y="102"/>
                  </a:cubicBezTo>
                  <a:cubicBezTo>
                    <a:pt x="492" y="91"/>
                    <a:pt x="496" y="75"/>
                    <a:pt x="495" y="62"/>
                  </a:cubicBezTo>
                  <a:cubicBezTo>
                    <a:pt x="493" y="33"/>
                    <a:pt x="473" y="14"/>
                    <a:pt x="447" y="7"/>
                  </a:cubicBezTo>
                  <a:cubicBezTo>
                    <a:pt x="422" y="0"/>
                    <a:pt x="390" y="1"/>
                    <a:pt x="371" y="21"/>
                  </a:cubicBezTo>
                  <a:cubicBezTo>
                    <a:pt x="354" y="39"/>
                    <a:pt x="352" y="66"/>
                    <a:pt x="358" y="89"/>
                  </a:cubicBezTo>
                  <a:cubicBezTo>
                    <a:pt x="362" y="99"/>
                    <a:pt x="367" y="109"/>
                    <a:pt x="373" y="117"/>
                  </a:cubicBezTo>
                  <a:cubicBezTo>
                    <a:pt x="376" y="120"/>
                    <a:pt x="378" y="124"/>
                    <a:pt x="380" y="128"/>
                  </a:cubicBezTo>
                  <a:cubicBezTo>
                    <a:pt x="389" y="140"/>
                    <a:pt x="395" y="154"/>
                    <a:pt x="387" y="168"/>
                  </a:cubicBezTo>
                  <a:cubicBezTo>
                    <a:pt x="373" y="192"/>
                    <a:pt x="342" y="184"/>
                    <a:pt x="321" y="176"/>
                  </a:cubicBezTo>
                  <a:cubicBezTo>
                    <a:pt x="274" y="159"/>
                    <a:pt x="220" y="175"/>
                    <a:pt x="173" y="183"/>
                  </a:cubicBezTo>
                  <a:cubicBezTo>
                    <a:pt x="174" y="181"/>
                    <a:pt x="176" y="178"/>
                    <a:pt x="177" y="175"/>
                  </a:cubicBezTo>
                  <a:cubicBezTo>
                    <a:pt x="174" y="176"/>
                    <a:pt x="172" y="177"/>
                    <a:pt x="170" y="179"/>
                  </a:cubicBezTo>
                  <a:cubicBezTo>
                    <a:pt x="168" y="180"/>
                    <a:pt x="167" y="181"/>
                    <a:pt x="167" y="183"/>
                  </a:cubicBezTo>
                  <a:cubicBezTo>
                    <a:pt x="168" y="182"/>
                    <a:pt x="170" y="181"/>
                    <a:pt x="171" y="179"/>
                  </a:cubicBezTo>
                  <a:cubicBezTo>
                    <a:pt x="171" y="179"/>
                    <a:pt x="172" y="179"/>
                    <a:pt x="172" y="179"/>
                  </a:cubicBezTo>
                  <a:cubicBezTo>
                    <a:pt x="167" y="193"/>
                    <a:pt x="170" y="208"/>
                    <a:pt x="171" y="222"/>
                  </a:cubicBezTo>
                  <a:cubicBezTo>
                    <a:pt x="173" y="239"/>
                    <a:pt x="175" y="257"/>
                    <a:pt x="177" y="274"/>
                  </a:cubicBezTo>
                  <a:cubicBezTo>
                    <a:pt x="180" y="302"/>
                    <a:pt x="186" y="335"/>
                    <a:pt x="180" y="363"/>
                  </a:cubicBezTo>
                  <a:cubicBezTo>
                    <a:pt x="174" y="394"/>
                    <a:pt x="146" y="399"/>
                    <a:pt x="120" y="386"/>
                  </a:cubicBezTo>
                  <a:cubicBezTo>
                    <a:pt x="97" y="375"/>
                    <a:pt x="74" y="356"/>
                    <a:pt x="47" y="363"/>
                  </a:cubicBezTo>
                  <a:cubicBezTo>
                    <a:pt x="21" y="369"/>
                    <a:pt x="0" y="396"/>
                    <a:pt x="2" y="423"/>
                  </a:cubicBezTo>
                  <a:cubicBezTo>
                    <a:pt x="4" y="451"/>
                    <a:pt x="25" y="472"/>
                    <a:pt x="52" y="47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clipart_4puzzlepieces"/>
            <p:cNvSpPr/>
            <p:nvPr/>
          </p:nvSpPr>
          <p:spPr>
            <a:xfrm>
              <a:off x="3096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clipart_4puzzlepieces"/>
            <p:cNvSpPr/>
            <p:nvPr/>
          </p:nvSpPr>
          <p:spPr>
            <a:xfrm>
              <a:off x="304920" y="2449080"/>
              <a:ext cx="2433600" cy="185580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4"/>
            <p:cNvSpPr/>
            <p:nvPr/>
          </p:nvSpPr>
          <p:spPr>
            <a:xfrm>
              <a:off x="50148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5"/>
            <p:cNvSpPr/>
            <p:nvPr/>
          </p:nvSpPr>
          <p:spPr>
            <a:xfrm>
              <a:off x="2228760" y="2665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ord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6"/>
            <p:cNvSpPr/>
            <p:nvPr/>
          </p:nvSpPr>
          <p:spPr>
            <a:xfrm>
              <a:off x="2157480" y="46004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7"/>
            <p:cNvSpPr/>
            <p:nvPr/>
          </p:nvSpPr>
          <p:spPr>
            <a:xfrm>
              <a:off x="35712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clipart_4puzzlepieces"/>
            <p:cNvSpPr/>
            <p:nvPr/>
          </p:nvSpPr>
          <p:spPr>
            <a:xfrm>
              <a:off x="3690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clipart_4puzzlepieces"/>
            <p:cNvSpPr/>
            <p:nvPr/>
          </p:nvSpPr>
          <p:spPr>
            <a:xfrm>
              <a:off x="309600" y="2438280"/>
              <a:ext cx="2489040" cy="1866960"/>
            </a:xfrm>
            <a:custGeom>
              <a:avLst/>
              <a:gdLst>
                <a:gd name="textAreaLeft" fmla="*/ 0 w 2489040"/>
                <a:gd name="textAreaRight" fmla="*/ 2489400 w 2489040"/>
                <a:gd name="textAreaTop" fmla="*/ 0 h 1866960"/>
                <a:gd name="textAreaBottom" fmla="*/ 1867320 h 186696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3b3b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"/>
            <p:cNvSpPr/>
            <p:nvPr/>
          </p:nvSpPr>
          <p:spPr>
            <a:xfrm>
              <a:off x="56196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7"/>
            <p:cNvSpPr/>
            <p:nvPr/>
          </p:nvSpPr>
          <p:spPr>
            <a:xfrm>
              <a:off x="41760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2"/>
          <p:cNvSpPr/>
          <p:nvPr/>
        </p:nvSpPr>
        <p:spPr>
          <a:xfrm rot="5400000">
            <a:off x="2494800" y="4057560"/>
            <a:ext cx="3505320" cy="266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4648320" y="23526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SSs in Asia-Pacific have capacity to produce &amp; disseminate the Core Set in line with 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4724280" y="42670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mproved soundness of economic analysis &amp; decision making throug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availability and effective use of timely, reliable and comparable economic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Principles of ESCAP’s economic statistics project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8000" y="1052640"/>
            <a:ext cx="8701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Focus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on institutional, organizational and domain-specific issues (Peer Review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Improv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underlying data for main national accounts indicators (including the SEEA) and business statistics (In-depth assessments &amp; following research and technical assistance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Build 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capability not only for routine data production but also for understanding the statistics and scrutinizing the quality of statistics (National research projec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Develop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institutional capacity for training (Materials, To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Coordinat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all of this under the NSO’s leadership together with all concerned national agencies and development partners 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07:25:44Z</dcterms:created>
  <dc:creator>Shared comp for SD</dc:creator>
  <dc:description/>
  <dc:language>en-US</dc:language>
  <cp:lastModifiedBy>Alick nyasulu</cp:lastModifiedBy>
  <dcterms:modified xsi:type="dcterms:W3CDTF">2018-10-01T06:40:02Z</dcterms:modified>
  <cp:revision>54</cp:revision>
  <dc:subject/>
  <dc:title>PowerPoint Presentation</dc:title>
</cp:coreProperties>
</file>