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46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2A6B-559B-4175-8EA7-8C03FE9F99BB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25E9-3EA0-41F2-9308-997AA34B3E4E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721-F7D9-48D5-B078-7B652938D3E4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06EB-8FCC-458A-BE1F-38C40EBEC31B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037-6973-4F9D-8B93-D3ABB251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339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6DE-0C71-4EDF-84F3-438F43A0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F9B-0F4C-46B6-841A-8DB5A54A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20140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20140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3396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3396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3396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E69-271D-47DD-9FEF-658F8DE0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0140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7BF-A122-4A7B-967B-2AD098C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518-B275-4A7A-B3B5-17D860A0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6CE-691B-47C7-8295-87C5F3BE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66E-5112-4590-BCBA-61AE08B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0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0A6-A278-491B-AD78-C93425FC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B64-2770-45BD-BC69-ADEE339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615-91C1-432E-9311-E705601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339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E20-18ED-4E7F-AA4A-E65F686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46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140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146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214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146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2146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127-658E-44FA-9A6B-131143E6DD3A}" type="datetime">
              <a:rPr b="0" lang="ru-RU" sz="14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976F-9B35-4CEB-95E7-498EE0A8FA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-76320" y="-47520"/>
            <a:ext cx="9302760" cy="696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9320" y="1628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467b"/>
                </a:solidFill>
                <a:latin typeface="Arial"/>
              </a:rPr>
              <a:t>Определения и разграничения Национальной статистической системы (НСС) и производства ЦУР</a:t>
            </a:r>
            <a:endParaRPr b="0" lang="en-US" sz="32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2260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467b"/>
                </a:solidFill>
                <a:latin typeface="Arial"/>
              </a:rPr>
              <a:t>Рабочая группа СПЕКА по статистике </a:t>
            </a:r>
            <a:br>
              <a:rPr sz="3000"/>
            </a:br>
            <a:r>
              <a:rPr b="0" lang="ru-RU" sz="3000" spc="-1" strike="noStrike">
                <a:solidFill>
                  <a:srgbClr val="21467b"/>
                </a:solidFill>
                <a:latin typeface="Arial"/>
              </a:rPr>
              <a:t>01 – 03 октября 2018 года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467b"/>
                </a:solidFill>
                <a:latin typeface="Arial"/>
              </a:rPr>
              <a:t>Фолькер Таубе, Статистическое управление ЕАСТ </a:t>
            </a: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395280" y="2276640"/>
            <a:ext cx="82915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Определения Национальной статистической системы (НС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Централизованная статистическая система против децентрализов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Взаимодействие между НСИ в качестве координаторов НСС и учреждениями-хранителями данных для Целей устойчивого 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ЦУР как «официальная статистик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21467b"/>
                </a:solidFill>
                <a:latin typeface="Arial"/>
                <a:ea typeface="Arial"/>
              </a:rPr>
              <a:t>План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50960" y="1125360"/>
            <a:ext cx="72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467b"/>
                </a:solidFill>
                <a:latin typeface="Arial"/>
              </a:rPr>
              <a:t>Определения: Национальная статистическая сист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17480" y="1978200"/>
            <a:ext cx="7496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Национальная статистическая система (НСС), как правило, состоит из национального статистического института (НСИ) и других учреждений и ведомств, которые производят официальную статистику. Эффективная и действенная национальная статистическая система, которая предусматривает регулярные и достоверные данные, является важным показателем эффективной политики и важнейшим компонентом эффективного управления.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(Евростат, Статистика в сотрудничестве в целях развит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Национальная статистическая система состоит из Национального статистического института, органов статистики и Болгарского национального банка. Органы статистики - это государственные органы или их структурные подразделения, которые разрабатывают, производят и распространяют статистическую информацию. Национальная статистическая система осуществляет статистическую деятельность путем проведения статистических обследований и мероприятий, включенных в </a:t>
            </a: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  <a:ea typeface="Arial"/>
              </a:rPr>
              <a:t>Национальную статистическую программу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. НСИ координирует статистическую деятельность государства.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(НСИ Болгарии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Национальная статистическая система (НСС) - это группа статистических организаций и подразделений в стране, которые совместно собирают, обрабатывают и распространяют официальную статистику от имени национального правительства.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(Глоссарий ОЭСР статистических термин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467b"/>
                </a:solidFill>
                <a:latin typeface="Arial"/>
              </a:rPr>
              <a:t>Централизованная система против децентрализованной</a:t>
            </a:r>
            <a:endParaRPr b="0" lang="en-US" sz="32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Нет единого решения по организации Национальной статистической системы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Статистические системы, скорее, существуют в континууме от стран с: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21467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централизованной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 системой, когда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</a:rPr>
              <a:t>единое ведомство несет ответственность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 за производство большинства официальных статистических данных (Австралия, Канада, Мексика и т. д.) для стран с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21467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более </a:t>
            </a: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децентрализованной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 системой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</a:rPr>
              <a:t> из нескольких ведомств, ответственных 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за подготовку официальной статистики (Швейцария, Германия, Великобритания и др.)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Аспекты централизации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+) Концентрация знаний, легкое восприятие НСИ как «бренда», способность планировать и координировать производство статистических данных по всей статистической системе и в долгосрочной перспективе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-) Необходимый опыт отсутствует, удаленность для пользователей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Аспекты децентрализации: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+) Министерства осуществляют статистические функции при отсутствии опыта центра (актуальность политики); ближе к пользователям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-) Не всегда эффективное планирование/координация в рамках всей системы, частое существенное участие министерств (беспристрастность / подверженность политическому давлению)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467b"/>
                </a:solidFill>
                <a:latin typeface="Arial"/>
              </a:rPr>
              <a:t>Централизованная система против децентрализованной</a:t>
            </a:r>
            <a:endParaRPr b="0" lang="en-US" sz="32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Однако: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Какова бы ни была определенная конфигурация НСС, НСИ должен играть при этом центральную координирующую роль!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Как учреждения-хранители данных вписываются в эту картину?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</a:rPr>
              <a:t>Взаимодействие между НСИ в качестве координаторов НСС и учреждениями-хранителями данных для Целей устойчивого развития</a:t>
            </a:r>
            <a:endParaRPr b="0" lang="en-US" sz="2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467b"/>
                </a:solidFill>
                <a:latin typeface="Arial"/>
              </a:rPr>
              <a:t>Учреждения-хранители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 – это органы Организации Объединенных Наций (а в некоторых случаях, других международных организаций), ответственные за составление и проверку страновых данных и метаданных, за представление данных, а также региональных и глобальных агрегированных показателей, в Статистический Отдел Организации Объединенных Наций (СОООН). Эти учреждения могут публиковать страновые данные в своих базах данных, и использовать их для тематической отчетности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Страновые данные должны быть </a:t>
            </a:r>
            <a:r>
              <a:rPr b="0" lang="ru-RU" sz="1800" spc="-1" strike="noStrike" u="sng">
                <a:solidFill>
                  <a:srgbClr val="21467b"/>
                </a:solidFill>
                <a:uFillTx/>
                <a:latin typeface="Arial"/>
              </a:rPr>
              <a:t>сопоставимы на международном уровне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. С этой целью учреждения также несут ответственность за </a:t>
            </a:r>
            <a:r>
              <a:rPr b="0" lang="ru-RU" sz="1800" spc="-1" strike="noStrike" u="sng">
                <a:solidFill>
                  <a:srgbClr val="21467b"/>
                </a:solidFill>
                <a:uFillTx/>
                <a:latin typeface="Arial"/>
              </a:rPr>
              <a:t>разработку международных стандартов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21467b"/>
                </a:solidFill>
                <a:uFillTx/>
                <a:latin typeface="Arial"/>
              </a:rPr>
              <a:t>рекомендацию методологии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 мониторинга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В случае различных точек зрения по методологии, НСИ и учреждения- хранители пытаются урегулировать вопросы в рамках межведомственных групп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</a:rPr>
              <a:t>ЦУР как «официальная статистика»</a:t>
            </a:r>
            <a:endParaRPr b="0" lang="en-US" sz="2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467b"/>
                </a:solidFill>
                <a:latin typeface="Arial"/>
              </a:rPr>
              <a:t>Евростат: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Ежегодные обзоры набора показателей ЦУР ЕС предусматривают включение показателей из новых источников данных, которые становятся доступными с течением времени, и учитывают новые приоритеты политики ЕС, в том числе долгосрочное видение ЕС на период после 2020 года. При подготовке отчета о мониторинге ЦУР ЕС за 2018 год, был пересмотрен набор показателей в период с декабря 2017 года по март 2018 года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НСИ производят такие показатели ЦУР, которые могут быть реализованы за счет использования имеющихся данных и определений; такие показатели можно рассматривать в качестве официальных статистических данных (для большинства показателей уровня 1 и 2)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467b"/>
                </a:solidFill>
                <a:latin typeface="Arial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21467b"/>
                </a:solidFill>
                <a:latin typeface="Arial"/>
                <a:ea typeface="Arial"/>
              </a:rPr>
              <a:t>Вопросы / Комментарии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9:46:32Z</dcterms:created>
  <dc:creator>ebjerkeb</dc:creator>
  <dc:description/>
  <cp:keywords/>
  <dc:language>en-US</dc:language>
  <cp:lastModifiedBy>Admin</cp:lastModifiedBy>
  <cp:lastPrinted>2015-02-12T10:08:51Z</cp:lastPrinted>
  <dcterms:modified xsi:type="dcterms:W3CDTF">2018-09-07T08:38:31Z</dcterms:modified>
  <cp:revision>416</cp:revision>
  <dc:subject/>
  <dc:title>Slide 1</dc:title>
</cp:coreProperties>
</file>