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1467b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21467b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8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04A14-2A35-4A1C-8044-20D4F06E3AB3}" type="slidenum">
              <a:rPr b="0" lang="ru-RU" sz="2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90C58-D5D2-498B-8AA5-99B831619675}" type="slidenum">
              <a:rPr b="0" lang="ru-RU" sz="2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Rectangle 10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-360" y="-36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tIns="-45360" bIns="-45360" anchor="b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77613-8029-470D-88FD-AAFAFF8EA06C}" type="slidenum">
              <a:rPr b="0" lang="ru-RU" sz="2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Rectangle 14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body"/>
          </p:nvPr>
        </p:nvSpPr>
        <p:spPr>
          <a:xfrm>
            <a:off x="-360" y="-36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tIns="-45360" bIns="-45360" anchor="b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3C35C-8013-40BE-8F7D-32D99E6A9EF5}" type="slidenum">
              <a:rPr b="0" lang="ru-RU" sz="2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Rectangle 18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body"/>
          </p:nvPr>
        </p:nvSpPr>
        <p:spPr>
          <a:xfrm>
            <a:off x="-360" y="-36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tIns="-45360" bIns="-45360" anchor="b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E2BA8-5D44-421C-A688-F6152D743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060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1467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01400"/>
            <a:ext cx="8229600" cy="185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1467b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4233960"/>
            <a:ext cx="8229600" cy="185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1467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F841F-6FFC-43A9-A474-B30D00F4F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060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1467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2201400"/>
            <a:ext cx="4015800" cy="185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1467b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2201400"/>
            <a:ext cx="4015800" cy="185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1467b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233960"/>
            <a:ext cx="4015800" cy="185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1467b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233960"/>
            <a:ext cx="4015800" cy="185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1467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F475A-B4E7-4F3F-9BA2-DF3A51969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060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1467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01400"/>
            <a:ext cx="2649600" cy="185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1467b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2201400"/>
            <a:ext cx="2649600" cy="185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1467b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2201400"/>
            <a:ext cx="2649600" cy="185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1467b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4233960"/>
            <a:ext cx="2649600" cy="185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1467b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4233960"/>
            <a:ext cx="2649600" cy="185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1467b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4233960"/>
            <a:ext cx="2649600" cy="185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1467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7E26C-45E3-41CB-AB68-4BCDF44B6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1060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1467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2201400"/>
            <a:ext cx="8229600" cy="38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1467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6FBB0-11A6-427F-9F14-2B86FF4D8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060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1467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2201400"/>
            <a:ext cx="8229600" cy="38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1467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CE161-141E-4CD4-A235-8AA16DECA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060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1467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2201400"/>
            <a:ext cx="4015800" cy="38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1467b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2201400"/>
            <a:ext cx="4015800" cy="38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1467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DB444-8DD7-4536-8EED-BAB453334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060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1467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C9596-275B-463F-B4A3-5CB8E2F9F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10602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1467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7E39D-66E2-4992-A36D-F2A3CD0BC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060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1467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2201400"/>
            <a:ext cx="4015800" cy="185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1467b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2201400"/>
            <a:ext cx="4015800" cy="38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1467b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4233960"/>
            <a:ext cx="4015800" cy="185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1467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A2381-FDE9-499B-B9E5-BEEE7434C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1060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1467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2201400"/>
            <a:ext cx="4015800" cy="38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1467b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2201400"/>
            <a:ext cx="4015800" cy="185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1467b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233960"/>
            <a:ext cx="4015800" cy="185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1467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CFAAD-741D-4CF9-B9BA-B4B69B038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060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1467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2201400"/>
            <a:ext cx="4015800" cy="185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1467b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2201400"/>
            <a:ext cx="4015800" cy="185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1467b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33960"/>
            <a:ext cx="8229600" cy="185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1467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7B87E-E001-462D-A10C-4560B5FC8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060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1467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21467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201400"/>
            <a:ext cx="8229600" cy="38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2146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1467b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21467b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2146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1467b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21467b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2146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1467b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21467b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2146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1467b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21467b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2146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1467b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21467b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1467b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21467b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1467b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21467b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3C038-0EF8-43F0-A25D-341BBFB628D9}" type="datetime">
              <a:rPr b="0" lang="ru-RU" sz="1400" spc="-1" strike="noStrike">
                <a:solidFill>
                  <a:srgbClr val="000000"/>
                </a:solidFill>
                <a:latin typeface="Verdana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7D29F-9EF5-4D97-A2AA-5A84FF63A0A5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" name="Picture 7" descr=""/>
          <p:cNvPicPr/>
          <p:nvPr/>
        </p:nvPicPr>
        <p:blipFill>
          <a:blip r:embed="rId2"/>
          <a:stretch/>
        </p:blipFill>
        <p:spPr>
          <a:xfrm>
            <a:off x="-76320" y="-47520"/>
            <a:ext cx="9302760" cy="6960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79320" y="1628640"/>
            <a:ext cx="7772400" cy="194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1467b"/>
                </a:solidFill>
                <a:latin typeface="Arial"/>
              </a:rPr>
              <a:t>Определения и разграничения Национальной статистической системы (НСС) и производства ЦУР</a:t>
            </a:r>
            <a:endParaRPr b="0" lang="en-US" sz="3200" spc="-1" strike="noStrike">
              <a:solidFill>
                <a:srgbClr val="21467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522600"/>
            <a:ext cx="6400800" cy="113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1467b"/>
              </a:solidFill>
              <a:latin typeface="Arial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21467b"/>
                </a:solidFill>
                <a:latin typeface="Arial"/>
              </a:rPr>
              <a:t>Рабочая группа СПЕКА по статистике </a:t>
            </a:r>
            <a:br>
              <a:rPr sz="3000"/>
            </a:br>
            <a:r>
              <a:rPr b="0" lang="ru-RU" sz="3000" spc="-1" strike="noStrike">
                <a:solidFill>
                  <a:srgbClr val="21467b"/>
                </a:solidFill>
                <a:latin typeface="Arial"/>
              </a:rPr>
              <a:t>01 – 03 октября 2018 года</a:t>
            </a:r>
            <a:endParaRPr b="0" lang="en-US" sz="3000" spc="-1" strike="noStrike">
              <a:solidFill>
                <a:srgbClr val="21467b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1467b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1467b"/>
                </a:solidFill>
                <a:latin typeface="Arial"/>
              </a:rPr>
              <a:t>Фолькер Таубе, Статистическое управление ЕАСТ </a:t>
            </a:r>
            <a:endParaRPr b="0" lang="en-US" sz="1600" spc="-1" strike="noStrike">
              <a:solidFill>
                <a:srgbClr val="21467b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11"/>
          <p:cNvSpPr/>
          <p:nvPr/>
        </p:nvSpPr>
        <p:spPr>
          <a:xfrm>
            <a:off x="395280" y="2276640"/>
            <a:ext cx="8291520" cy="37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lvl="1" marL="923760" indent="-480240">
              <a:lnSpc>
                <a:spcPct val="150000"/>
              </a:lnSpc>
              <a:spcBef>
                <a:spcPts val="499"/>
              </a:spcBef>
              <a:buClr>
                <a:srgbClr val="21467b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467b"/>
                </a:solidFill>
                <a:latin typeface="Arial"/>
                <a:ea typeface="Arial"/>
              </a:rPr>
              <a:t>Определения Национальной статистической системы (НСС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23760" indent="-480240">
              <a:lnSpc>
                <a:spcPct val="150000"/>
              </a:lnSpc>
              <a:spcBef>
                <a:spcPts val="499"/>
              </a:spcBef>
              <a:buClr>
                <a:srgbClr val="21467b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467b"/>
                </a:solidFill>
                <a:latin typeface="Arial"/>
                <a:ea typeface="Arial"/>
              </a:rPr>
              <a:t>Централизованная статистическая система против децентрализованной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23760" indent="-480240">
              <a:lnSpc>
                <a:spcPct val="150000"/>
              </a:lnSpc>
              <a:spcBef>
                <a:spcPts val="499"/>
              </a:spcBef>
              <a:buClr>
                <a:srgbClr val="21467b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467b"/>
                </a:solidFill>
                <a:latin typeface="Arial"/>
                <a:ea typeface="Arial"/>
              </a:rPr>
              <a:t>Взаимодействие между НСИ в качестве координаторов НСС и учреждениями-хранителями данных для Целей устойчивого развития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23760" indent="-480240">
              <a:lnSpc>
                <a:spcPct val="150000"/>
              </a:lnSpc>
              <a:spcBef>
                <a:spcPts val="499"/>
              </a:spcBef>
              <a:buClr>
                <a:srgbClr val="21467b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467b"/>
                </a:solidFill>
                <a:latin typeface="Arial"/>
                <a:ea typeface="Arial"/>
              </a:rPr>
              <a:t>ЦУР как «официальная статистика»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23760" indent="-48024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Rectangle 2"/>
          <p:cNvSpPr/>
          <p:nvPr/>
        </p:nvSpPr>
        <p:spPr>
          <a:xfrm>
            <a:off x="457200" y="1413000"/>
            <a:ext cx="82296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27000"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3600" spc="-1" strike="noStrike">
                <a:solidFill>
                  <a:srgbClr val="21467b"/>
                </a:solidFill>
                <a:latin typeface="Arial"/>
                <a:ea typeface="Arial"/>
              </a:rPr>
              <a:t>План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Box 1"/>
          <p:cNvSpPr/>
          <p:nvPr/>
        </p:nvSpPr>
        <p:spPr>
          <a:xfrm>
            <a:off x="750960" y="1125360"/>
            <a:ext cx="720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1467b"/>
                </a:solidFill>
                <a:latin typeface="Arial"/>
              </a:rPr>
              <a:t>Определения: Национальная статистическая систем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TextBox 3"/>
          <p:cNvSpPr/>
          <p:nvPr/>
        </p:nvSpPr>
        <p:spPr>
          <a:xfrm>
            <a:off x="717480" y="1978200"/>
            <a:ext cx="7496280" cy="45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1467b"/>
                </a:solidFill>
                <a:latin typeface="Arial"/>
                <a:ea typeface="Arial"/>
              </a:rPr>
              <a:t>Национальная статистическая система (НСС), как правило, состоит из национального статистического института (НСИ) и других учреждений и ведомств, которые производят официальную статистику. Эффективная и действенная национальная статистическая система, которая предусматривает регулярные и достоверные данные, является важным показателем эффективной политики и важнейшим компонентом эффективного управления. </a:t>
            </a:r>
            <a:r>
              <a:rPr b="1" lang="ru-RU" sz="1400" spc="-1" strike="noStrike">
                <a:solidFill>
                  <a:srgbClr val="21467b"/>
                </a:solidFill>
                <a:latin typeface="Arial"/>
                <a:ea typeface="Arial"/>
              </a:rPr>
              <a:t>(Евростат, Статистика в сотрудничестве в целях развития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1467b"/>
                </a:solidFill>
                <a:latin typeface="Arial"/>
                <a:ea typeface="Arial"/>
              </a:rPr>
              <a:t>Национальная статистическая система состоит из Национального статистического института, органов статистики и Болгарского национального банка. Органы статистики - это государственные органы или их структурные подразделения, которые разрабатывают, производят и распространяют статистическую информацию. Национальная статистическая система осуществляет статистическую деятельность путем проведения статистических обследований и мероприятий, включенных в </a:t>
            </a:r>
            <a:r>
              <a:rPr b="0" lang="ru-RU" sz="1400" spc="-1" strike="noStrike" u="sng">
                <a:solidFill>
                  <a:srgbClr val="21467b"/>
                </a:solidFill>
                <a:uFillTx/>
                <a:latin typeface="Arial"/>
                <a:ea typeface="Arial"/>
              </a:rPr>
              <a:t>Национальную статистическую программу</a:t>
            </a:r>
            <a:r>
              <a:rPr b="0" lang="ru-RU" sz="1400" spc="-1" strike="noStrike">
                <a:solidFill>
                  <a:srgbClr val="21467b"/>
                </a:solidFill>
                <a:latin typeface="Arial"/>
                <a:ea typeface="Arial"/>
              </a:rPr>
              <a:t>. НСИ координирует статистическую деятельность государства. </a:t>
            </a:r>
            <a:r>
              <a:rPr b="1" lang="ru-RU" sz="1400" spc="-1" strike="noStrike">
                <a:solidFill>
                  <a:srgbClr val="21467b"/>
                </a:solidFill>
                <a:latin typeface="Arial"/>
                <a:ea typeface="Arial"/>
              </a:rPr>
              <a:t>(НСИ Болгарии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1467b"/>
                </a:solidFill>
                <a:latin typeface="Arial"/>
                <a:ea typeface="Arial"/>
              </a:rPr>
              <a:t>Национальная статистическая система (НСС) - это группа статистических организаций и подразделений в стране, которые совместно собирают, обрабатывают и распространяют официальную статистику от имени национального правительства. </a:t>
            </a:r>
            <a:r>
              <a:rPr b="1" lang="ru-RU" sz="1400" spc="-1" strike="noStrike">
                <a:solidFill>
                  <a:srgbClr val="21467b"/>
                </a:solidFill>
                <a:latin typeface="Arial"/>
                <a:ea typeface="Arial"/>
              </a:rPr>
              <a:t>(Глоссарий ОЭСР статистических терминов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06056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1467b"/>
                </a:solidFill>
                <a:latin typeface="Arial"/>
              </a:rPr>
              <a:t>Централизованная система против децентрализованной</a:t>
            </a:r>
            <a:endParaRPr b="0" lang="en-US" sz="3200" spc="-1" strike="noStrike">
              <a:solidFill>
                <a:srgbClr val="21467b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68360" y="1916280"/>
            <a:ext cx="8229600" cy="42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1467b"/>
                </a:solidFill>
                <a:latin typeface="Arial"/>
              </a:rPr>
              <a:t>Нет единого решения по организации Национальной статистической системы.</a:t>
            </a:r>
            <a:endParaRPr b="0" lang="en-US" sz="1400" spc="-1" strike="noStrike">
              <a:solidFill>
                <a:srgbClr val="21467b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1467b"/>
                </a:solidFill>
                <a:latin typeface="Arial"/>
              </a:rPr>
              <a:t>Статистические системы, скорее, существуют в континууме от стран с:</a:t>
            </a:r>
            <a:endParaRPr b="0" lang="en-US" sz="1400" spc="-1" strike="noStrike">
              <a:solidFill>
                <a:srgbClr val="21467b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21467b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21467b"/>
                </a:solidFill>
                <a:uFillTx/>
                <a:latin typeface="Arial"/>
              </a:rPr>
              <a:t>централизованной</a:t>
            </a:r>
            <a:r>
              <a:rPr b="0" lang="ru-RU" sz="1400" spc="-1" strike="noStrike">
                <a:solidFill>
                  <a:srgbClr val="21467b"/>
                </a:solidFill>
                <a:latin typeface="Arial"/>
              </a:rPr>
              <a:t> системой, когда </a:t>
            </a:r>
            <a:r>
              <a:rPr b="1" lang="ru-RU" sz="1400" spc="-1" strike="noStrike">
                <a:solidFill>
                  <a:srgbClr val="21467b"/>
                </a:solidFill>
                <a:latin typeface="Arial"/>
              </a:rPr>
              <a:t>единое ведомство несет ответственность</a:t>
            </a:r>
            <a:r>
              <a:rPr b="0" lang="ru-RU" sz="1400" spc="-1" strike="noStrike">
                <a:solidFill>
                  <a:srgbClr val="21467b"/>
                </a:solidFill>
                <a:latin typeface="Arial"/>
              </a:rPr>
              <a:t> за производство большинства официальных статистических данных (Австралия, Канада, Мексика и т. д.) для стран с</a:t>
            </a:r>
            <a:endParaRPr b="0" lang="en-US" sz="1400" spc="-1" strike="noStrike">
              <a:solidFill>
                <a:srgbClr val="21467b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21467b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1467b"/>
                </a:solidFill>
                <a:latin typeface="Arial"/>
              </a:rPr>
              <a:t>более </a:t>
            </a:r>
            <a:r>
              <a:rPr b="0" lang="ru-RU" sz="1400" spc="-1" strike="noStrike" u="sng">
                <a:solidFill>
                  <a:srgbClr val="21467b"/>
                </a:solidFill>
                <a:uFillTx/>
                <a:latin typeface="Arial"/>
              </a:rPr>
              <a:t>децентрализованной</a:t>
            </a:r>
            <a:r>
              <a:rPr b="0" lang="ru-RU" sz="1400" spc="-1" strike="noStrike">
                <a:solidFill>
                  <a:srgbClr val="21467b"/>
                </a:solidFill>
                <a:latin typeface="Arial"/>
              </a:rPr>
              <a:t> системой</a:t>
            </a:r>
            <a:r>
              <a:rPr b="1" lang="ru-RU" sz="1400" spc="-1" strike="noStrike">
                <a:solidFill>
                  <a:srgbClr val="21467b"/>
                </a:solidFill>
                <a:latin typeface="Arial"/>
              </a:rPr>
              <a:t> из нескольких ведомств, ответственных </a:t>
            </a:r>
            <a:r>
              <a:rPr b="0" lang="ru-RU" sz="1400" spc="-1" strike="noStrike">
                <a:solidFill>
                  <a:srgbClr val="21467b"/>
                </a:solidFill>
                <a:latin typeface="Arial"/>
              </a:rPr>
              <a:t>за подготовку официальной статистики (Швейцария, Германия, Великобритания и др.).</a:t>
            </a:r>
            <a:endParaRPr b="0" lang="en-US" sz="1400" spc="-1" strike="noStrike">
              <a:solidFill>
                <a:srgbClr val="21467b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1467b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21467b"/>
                </a:solidFill>
                <a:uFillTx/>
                <a:latin typeface="Arial"/>
              </a:rPr>
              <a:t>Аспекты централизации</a:t>
            </a:r>
            <a:r>
              <a:rPr b="0" lang="ru-RU" sz="1400" spc="-1" strike="noStrike">
                <a:solidFill>
                  <a:srgbClr val="21467b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21467b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1467b"/>
                </a:solidFill>
                <a:latin typeface="Arial"/>
              </a:rPr>
              <a:t>(+) Концентрация знаний, легкое восприятие НСИ как «бренда», способность планировать и координировать производство статистических данных по всей статистической системе и в долгосрочной перспективе.</a:t>
            </a:r>
            <a:endParaRPr b="0" lang="en-US" sz="1400" spc="-1" strike="noStrike">
              <a:solidFill>
                <a:srgbClr val="21467b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1467b"/>
                </a:solidFill>
                <a:latin typeface="Arial"/>
              </a:rPr>
              <a:t>(-) Необходимый опыт отсутствует, удаленность для пользователей.</a:t>
            </a:r>
            <a:endParaRPr b="0" lang="en-US" sz="1400" spc="-1" strike="noStrike">
              <a:solidFill>
                <a:srgbClr val="21467b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1467b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21467b"/>
                </a:solidFill>
                <a:uFillTx/>
                <a:latin typeface="Arial"/>
              </a:rPr>
              <a:t>Аспекты децентрализации:</a:t>
            </a:r>
            <a:endParaRPr b="0" lang="en-US" sz="1400" spc="-1" strike="noStrike">
              <a:solidFill>
                <a:srgbClr val="21467b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1467b"/>
                </a:solidFill>
                <a:latin typeface="Arial"/>
              </a:rPr>
              <a:t>(+) Министерства осуществляют статистические функции при отсутствии опыта центра (актуальность политики); ближе к пользователям</a:t>
            </a:r>
            <a:endParaRPr b="0" lang="en-US" sz="1400" spc="-1" strike="noStrike">
              <a:solidFill>
                <a:srgbClr val="21467b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1467b"/>
                </a:solidFill>
                <a:latin typeface="Arial"/>
              </a:rPr>
              <a:t>(-) Не всегда эффективное планирование/координация в рамках всей системы, частое существенное участие министерств (беспристрастность / подверженность политическому давлению).</a:t>
            </a:r>
            <a:endParaRPr b="0" lang="en-US" sz="1400" spc="-1" strike="noStrike">
              <a:solidFill>
                <a:srgbClr val="21467b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1467b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1467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06056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1467b"/>
                </a:solidFill>
                <a:latin typeface="Arial"/>
              </a:rPr>
              <a:t>Централизованная система против децентрализованной</a:t>
            </a:r>
            <a:endParaRPr b="0" lang="en-US" sz="3200" spc="-1" strike="noStrike">
              <a:solidFill>
                <a:srgbClr val="21467b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68360" y="1916280"/>
            <a:ext cx="8229600" cy="42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1467b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1467b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1467b"/>
                </a:solidFill>
                <a:latin typeface="Arial"/>
              </a:rPr>
              <a:t>Однако:</a:t>
            </a:r>
            <a:endParaRPr b="0" lang="en-US" sz="1800" spc="-1" strike="noStrike">
              <a:solidFill>
                <a:srgbClr val="21467b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1467b"/>
                </a:solidFill>
                <a:latin typeface="Arial"/>
              </a:rPr>
              <a:t>Какова бы ни была определенная конфигурация НСС, НСИ должен играть при этом центральную координирующую роль!</a:t>
            </a:r>
            <a:endParaRPr b="0" lang="en-US" sz="1800" spc="-1" strike="noStrike">
              <a:solidFill>
                <a:srgbClr val="21467b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1467b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1467b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1467b"/>
                </a:solidFill>
                <a:latin typeface="Arial"/>
              </a:rPr>
              <a:t>Как учреждения-хранители данных вписываются в эту картину?</a:t>
            </a:r>
            <a:endParaRPr b="0" lang="en-US" sz="1800" spc="-1" strike="noStrike">
              <a:solidFill>
                <a:srgbClr val="21467b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1467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06056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467b"/>
                </a:solidFill>
                <a:latin typeface="Arial"/>
              </a:rPr>
              <a:t>Взаимодействие между НСИ в качестве координаторов НСС и учреждениями-хранителями данных для Целей устойчивого развития</a:t>
            </a:r>
            <a:endParaRPr b="0" lang="en-US" sz="2000" spc="-1" strike="noStrike">
              <a:solidFill>
                <a:srgbClr val="21467b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68360" y="234900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1467b"/>
                </a:solidFill>
                <a:latin typeface="Arial"/>
              </a:rPr>
              <a:t>Учреждения-хранители</a:t>
            </a:r>
            <a:r>
              <a:rPr b="0" lang="ru-RU" sz="1800" spc="-1" strike="noStrike">
                <a:solidFill>
                  <a:srgbClr val="21467b"/>
                </a:solidFill>
                <a:latin typeface="Arial"/>
              </a:rPr>
              <a:t> – это органы Организации Объединенных Наций (а в некоторых случаях, других международных организаций), ответственные за составление и проверку страновых данных и метаданных, за представление данных, а также региональных и глобальных агрегированных показателей, в Статистический Отдел Организации Объединенных Наций (СОООН). Эти учреждения могут публиковать страновые данные в своих базах данных, и использовать их для тематической отчетности.</a:t>
            </a:r>
            <a:endParaRPr b="0" lang="en-US" sz="1800" spc="-1" strike="noStrike">
              <a:solidFill>
                <a:srgbClr val="21467b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1467b"/>
                </a:solidFill>
                <a:latin typeface="Arial"/>
              </a:rPr>
              <a:t>Страновые данные должны быть </a:t>
            </a:r>
            <a:r>
              <a:rPr b="0" lang="ru-RU" sz="1800" spc="-1" strike="noStrike" u="sng">
                <a:solidFill>
                  <a:srgbClr val="21467b"/>
                </a:solidFill>
                <a:uFillTx/>
                <a:latin typeface="Arial"/>
              </a:rPr>
              <a:t>сопоставимы на международном уровне</a:t>
            </a:r>
            <a:r>
              <a:rPr b="0" lang="ru-RU" sz="1800" spc="-1" strike="noStrike">
                <a:solidFill>
                  <a:srgbClr val="21467b"/>
                </a:solidFill>
                <a:latin typeface="Arial"/>
              </a:rPr>
              <a:t>. С этой целью учреждения также несут ответственность за </a:t>
            </a:r>
            <a:r>
              <a:rPr b="0" lang="ru-RU" sz="1800" spc="-1" strike="noStrike" u="sng">
                <a:solidFill>
                  <a:srgbClr val="21467b"/>
                </a:solidFill>
                <a:uFillTx/>
                <a:latin typeface="Arial"/>
              </a:rPr>
              <a:t>разработку международных стандартов</a:t>
            </a:r>
            <a:r>
              <a:rPr b="0" lang="ru-RU" sz="1800" spc="-1" strike="noStrike">
                <a:solidFill>
                  <a:srgbClr val="21467b"/>
                </a:solidFill>
                <a:latin typeface="Arial"/>
              </a:rPr>
              <a:t> и </a:t>
            </a:r>
            <a:r>
              <a:rPr b="0" lang="ru-RU" sz="1800" spc="-1" strike="noStrike" u="sng">
                <a:solidFill>
                  <a:srgbClr val="21467b"/>
                </a:solidFill>
                <a:uFillTx/>
                <a:latin typeface="Arial"/>
              </a:rPr>
              <a:t>рекомендацию методологии</a:t>
            </a:r>
            <a:r>
              <a:rPr b="0" lang="ru-RU" sz="1800" spc="-1" strike="noStrike">
                <a:solidFill>
                  <a:srgbClr val="21467b"/>
                </a:solidFill>
                <a:latin typeface="Arial"/>
              </a:rPr>
              <a:t> мониторинга.</a:t>
            </a:r>
            <a:endParaRPr b="0" lang="en-US" sz="1800" spc="-1" strike="noStrike">
              <a:solidFill>
                <a:srgbClr val="21467b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1467b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1467b"/>
                </a:solidFill>
                <a:latin typeface="Arial"/>
              </a:rPr>
              <a:t>В случае различных точек зрения по методологии, НСИ и учреждения- хранители пытаются урегулировать вопросы в рамках межведомственных групп.</a:t>
            </a:r>
            <a:endParaRPr b="0" lang="en-US" sz="1800" spc="-1" strike="noStrike">
              <a:solidFill>
                <a:srgbClr val="21467b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1467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06056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467b"/>
                </a:solidFill>
                <a:latin typeface="Arial"/>
              </a:rPr>
              <a:t>ЦУР как «официальная статистика»</a:t>
            </a:r>
            <a:endParaRPr b="0" lang="en-US" sz="2000" spc="-1" strike="noStrike">
              <a:solidFill>
                <a:srgbClr val="21467b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68360" y="234900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1467b"/>
                </a:solidFill>
                <a:latin typeface="Arial"/>
              </a:rPr>
              <a:t>Евростат:</a:t>
            </a:r>
            <a:endParaRPr b="0" lang="en-US" sz="1800" spc="-1" strike="noStrike">
              <a:solidFill>
                <a:srgbClr val="21467b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1467b"/>
                </a:solidFill>
                <a:latin typeface="Arial"/>
              </a:rPr>
              <a:t>Ежегодные обзоры набора показателей ЦУР ЕС предусматривают включение показателей из новых источников данных, которые становятся доступными с течением времени, и учитывают новые приоритеты политики ЕС, в том числе долгосрочное видение ЕС на период после 2020 года. При подготовке отчета о мониторинге ЦУР ЕС за 2018 год, был пересмотрен набор показателей в период с декабря 2017 года по март 2018 года.</a:t>
            </a:r>
            <a:endParaRPr b="0" lang="en-US" sz="1800" spc="-1" strike="noStrike">
              <a:solidFill>
                <a:srgbClr val="21467b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1467b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1467b"/>
                </a:solidFill>
                <a:latin typeface="Arial"/>
              </a:rPr>
              <a:t>НСИ производят такие показатели ЦУР, которые могут быть реализованы за счет использования имеющихся данных и определений; такие показатели можно рассматривать в качестве официальных статистических данных (для большинства показателей уровня 1 и 2).</a:t>
            </a:r>
            <a:endParaRPr b="0" lang="en-US" sz="1800" spc="-1" strike="noStrike">
              <a:solidFill>
                <a:srgbClr val="21467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4"/>
          <p:cNvSpPr/>
          <p:nvPr/>
        </p:nvSpPr>
        <p:spPr>
          <a:xfrm>
            <a:off x="324000" y="1268280"/>
            <a:ext cx="8229600" cy="28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ct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2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1467b"/>
                </a:solidFill>
                <a:latin typeface="Arial"/>
                <a:ea typeface="Arial"/>
              </a:rPr>
              <a:t>Спасибо за внимание!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2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3600" spc="-1" strike="noStrike">
                <a:solidFill>
                  <a:srgbClr val="21467b"/>
                </a:solidFill>
                <a:latin typeface="Arial"/>
                <a:ea typeface="Arial"/>
              </a:rPr>
              <a:t>Вопросы / Комментарии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9T09:46:32Z</dcterms:created>
  <dc:creator>ebjerkeb</dc:creator>
  <dc:description/>
  <cp:keywords/>
  <dc:language>en-US</dc:language>
  <cp:lastModifiedBy>Admin</cp:lastModifiedBy>
  <cp:lastPrinted>2015-02-12T10:08:51Z</cp:lastPrinted>
  <dcterms:modified xsi:type="dcterms:W3CDTF">2018-09-07T08:38:31Z</dcterms:modified>
  <cp:revision>416</cp:revision>
  <dc:subject/>
  <dc:title>Slide 1</dc:title>
</cp:coreProperties>
</file>