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28A-62E7-4396-99AB-B3D029E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759-314D-44E1-9B6A-3AF4E1E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084-CCC7-409E-8D9C-414AB40F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465-ED9E-48D5-97CA-0249CFC7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97B-221C-45C4-B70D-1C4A2348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63B-0329-4307-9F01-4BC57588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CF2-F36C-43A2-A374-FE894E03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04E-66A1-410C-8B30-6A5FB2D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7F1-FC92-46C9-9B1F-B2ACADB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57B-7173-4199-B108-20D3107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9B5-9658-45C8-ACF1-04FB234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796-A0AE-47DC-87CE-AC055D1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0D3-4D05-4169-A80B-EE0FC4136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mailto:info@armstat.am" TargetMode="External"/><Relationship Id="rId3" Type="http://schemas.openxmlformats.org/officeDocument/2006/relationships/hyperlink" Target="mailto:info@armstat.am" TargetMode="External"/><Relationship Id="rId4" Type="http://schemas.openxmlformats.org/officeDocument/2006/relationships/hyperlink" Target="mailto:info@armstat.am" TargetMode="External"/><Relationship Id="rId5" Type="http://schemas.openxmlformats.org/officeDocument/2006/relationships/hyperlink" Target="mailto:info@armstat.a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3th SPECA Working Group on Statistics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-3 October 2018, Shymkent, Kazakhsta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ng the national statistical system, including coordinating other national producers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hit Safy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ber, State Council on Stat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stical Committee of the Republic of Armenia (Armst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4" descr="arm_flag"/>
          <p:cNvPicPr/>
          <p:nvPr/>
        </p:nvPicPr>
        <p:blipFill>
          <a:blip r:embed="rId1"/>
          <a:stretch/>
        </p:blipFill>
        <p:spPr>
          <a:xfrm>
            <a:off x="539640" y="620640"/>
            <a:ext cx="1440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7093080" y="692280"/>
            <a:ext cx="1315800" cy="593640"/>
            <a:chOff x="7093080" y="692280"/>
            <a:chExt cx="1315800" cy="593640"/>
          </a:xfrm>
        </p:grpSpPr>
        <p:grpSp>
          <p:nvGrpSpPr>
            <p:cNvPr id="45" name="Group 5"/>
            <p:cNvGrpSpPr/>
            <p:nvPr/>
          </p:nvGrpSpPr>
          <p:grpSpPr>
            <a:xfrm>
              <a:off x="7093080" y="692280"/>
              <a:ext cx="1315800" cy="527760"/>
              <a:chOff x="7093080" y="692280"/>
              <a:chExt cx="1315800" cy="527760"/>
            </a:xfrm>
          </p:grpSpPr>
          <p:sp>
            <p:nvSpPr>
              <p:cNvPr id="46" name="Rectangle 6"/>
              <p:cNvSpPr/>
              <p:nvPr/>
            </p:nvSpPr>
            <p:spPr>
              <a:xfrm>
                <a:off x="7093080" y="692280"/>
                <a:ext cx="1315800" cy="52776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7"/>
              <p:cNvSpPr/>
              <p:nvPr/>
            </p:nvSpPr>
            <p:spPr>
              <a:xfrm>
                <a:off x="7093080" y="103248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8"/>
              <p:cNvSpPr/>
              <p:nvPr/>
            </p:nvSpPr>
            <p:spPr>
              <a:xfrm flipV="1">
                <a:off x="7408800" y="886320"/>
                <a:ext cx="157680" cy="145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Line 9"/>
              <p:cNvSpPr/>
              <p:nvPr/>
            </p:nvSpPr>
            <p:spPr>
              <a:xfrm>
                <a:off x="7566480" y="886680"/>
                <a:ext cx="105120" cy="145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10"/>
              <p:cNvSpPr/>
              <p:nvPr/>
            </p:nvSpPr>
            <p:spPr>
              <a:xfrm flipV="1">
                <a:off x="7671960" y="789120"/>
                <a:ext cx="263160" cy="243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11"/>
              <p:cNvSpPr/>
              <p:nvPr/>
            </p:nvSpPr>
            <p:spPr>
              <a:xfrm>
                <a:off x="7935120" y="789480"/>
                <a:ext cx="157680" cy="243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12"/>
              <p:cNvSpPr/>
              <p:nvPr/>
            </p:nvSpPr>
            <p:spPr>
              <a:xfrm>
                <a:off x="8093160" y="103248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Text Box 13"/>
            <p:cNvSpPr/>
            <p:nvPr/>
          </p:nvSpPr>
          <p:spPr>
            <a:xfrm>
              <a:off x="7093080" y="1044000"/>
              <a:ext cx="12632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128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2" descr="ÐÐ°ÑÑÐ¸Ð½ÐºÐ¸ Ð¿Ð¾ Ð·Ð°Ð¿ÑÐ¾ÑÑ image for conclusion"/>
          <p:cNvPicPr/>
          <p:nvPr/>
        </p:nvPicPr>
        <p:blipFill>
          <a:blip r:embed="rId1"/>
          <a:stretch/>
        </p:blipFill>
        <p:spPr>
          <a:xfrm>
            <a:off x="5873760" y="2104920"/>
            <a:ext cx="3243240" cy="3554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3"/>
          <p:cNvSpPr/>
          <p:nvPr/>
        </p:nvSpPr>
        <p:spPr>
          <a:xfrm>
            <a:off x="685800" y="2090880"/>
            <a:ext cx="4606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on and well established procedures are in place for implementing the coordination role at both national and international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cooperation and partnership tools to achieve consistency and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atistica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mmunica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by the NSO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NSSBuilding"/>
          <p:cNvPicPr/>
          <p:nvPr/>
        </p:nvPicPr>
        <p:blipFill>
          <a:blip r:embed="rId1"/>
          <a:stretch/>
        </p:blipFill>
        <p:spPr>
          <a:xfrm>
            <a:off x="696960" y="2662200"/>
            <a:ext cx="360360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9720" rIns="90000" tIns="-37800" bIns="-15192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43280" y="2643120"/>
            <a:ext cx="3097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AL COMMIT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UBLIC OF ARMEN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Government Hous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ublic ave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revan 00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ublic of Armen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 (37411) 524 21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(37411) 521 92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nf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@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rmstat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rmstat.am; www.armstat.info; www.armdevinfo.am, www.armstatbank.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 on Official Statistics, 9 April 20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L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tatistic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SS) is laid down in the La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57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58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2" descr="ÐÐ°ÑÑÐ¸Ð½ÐºÐ¸ Ð¿Ð¾ Ð·Ð°Ð¿ÑÐ¾ÑÑ Images of Law"/>
          <p:cNvPicPr/>
          <p:nvPr/>
        </p:nvPicPr>
        <p:blipFill>
          <a:blip r:embed="rId1"/>
          <a:stretch/>
        </p:blipFill>
        <p:spPr>
          <a:xfrm>
            <a:off x="5867280" y="3284640"/>
            <a:ext cx="32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S of Arm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ial statistics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tat is the main produ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official statistics that coord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ctivities for the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and dissemin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ial statistics within the NS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 the Central Bank of Arm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70" name="Group 5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Diagram 19" descr=""/>
          <p:cNvPicPr/>
          <p:nvPr/>
        </p:nvPicPr>
        <p:blipFill>
          <a:blip r:embed="rId1"/>
          <a:stretch/>
        </p:blipFill>
        <p:spPr>
          <a:xfrm>
            <a:off x="3706920" y="1981080"/>
            <a:ext cx="52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participants in rel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offici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2174760"/>
            <a:ext cx="381636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dents: natural and legal persons, individual entrepreneurs, households, state and local self-government bodi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istrative data providers: state and local self-government bodies that provide producers of official statistics with data collected for administrative purpo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s: natural and legal persons, state and local self-government bodies, international organizations and authorities of other countries, who receive official statistics or have access to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isory bodies of statistics users: Public Council of Users of Official Statistics, Other Advisory Bod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ontent Placeholder 21" descr=""/>
          <p:cNvPicPr/>
          <p:nvPr/>
        </p:nvPicPr>
        <p:blipFill>
          <a:blip r:embed="rId1"/>
          <a:stretch/>
        </p:blipFill>
        <p:spPr>
          <a:xfrm>
            <a:off x="4363920" y="2170080"/>
            <a:ext cx="4737240" cy="4194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84" name="Group 8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147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Producers of Official Statist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iagram 2" descr=""/>
          <p:cNvPicPr/>
          <p:nvPr/>
        </p:nvPicPr>
        <p:blipFill>
          <a:blip r:embed="rId1"/>
          <a:stretch/>
        </p:blipFill>
        <p:spPr>
          <a:xfrm>
            <a:off x="-55440" y="774720"/>
            <a:ext cx="9242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al Principles of Official Stat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ducers of official statistics develop, produce and disseminate official statistics of the Republic of Armenia according to the  Fundamental Principles of Official Statistics and other agreed statistical princi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https://unstats.un.org/unsd/img/UNSD_second_banner.png"/>
          <p:cNvPicPr/>
          <p:nvPr/>
        </p:nvPicPr>
        <p:blipFill>
          <a:blip r:embed="rId1"/>
          <a:stretch/>
        </p:blipFill>
        <p:spPr>
          <a:xfrm>
            <a:off x="838080" y="7621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framework for coordination role ensures that statistics produced within the NSS meets the relevant quality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duplication of wor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inimize the reporting bu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espondents and to facili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gration of data from different sources through the use of statistical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101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102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Picture 2" descr="ÐÐ°ÑÑÐ¸Ð½ÐºÐ¸ Ð¿Ð¾ Ð·Ð°Ð¿ÑÐ¾ÑÑ images of coordination"/>
          <p:cNvPicPr/>
          <p:nvPr/>
        </p:nvPicPr>
        <p:blipFill>
          <a:blip r:embed="rId1"/>
          <a:stretch/>
        </p:blipFill>
        <p:spPr>
          <a:xfrm>
            <a:off x="6143760" y="2924280"/>
            <a:ext cx="2857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ÐÐ°ÑÑÐ¸Ð½ÐºÐ¸ Ð¿Ð¾ Ð·Ð°Ð¿ÑÐ¾ÑÑ images for coordination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tat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activities of all other national authorities that develop, produce and disseminate offici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practices across the NSS, except the Central Bank of Armenia, in collaboration with other producers of official statis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roducers of official statistics use common, internationally agreed concepts, definitions, classification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622440" y="1981080"/>
            <a:ext cx="78451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117" name="Group 8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hit Safyan</cp:lastModifiedBy>
  <cp:lastPrinted>2018-09-10T07:30:00Z</cp:lastPrinted>
  <dcterms:modified xsi:type="dcterms:W3CDTF">2018-09-25T10:39:55Z</dcterms:modified>
  <cp:revision>1168</cp:revision>
  <dc:subject/>
  <dc:title>PowerPoint Presentation</dc:title>
</cp:coreProperties>
</file>