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D30-7602-401D-BF73-1E96C898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4C4-C213-42F7-9EE6-1AB875B1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593-90DA-45C9-A411-979F40E1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6EF-7207-4B17-8F2F-CCA38DEA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EA0-0741-4817-8E06-DCC093DD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316-8AA8-4623-8B3C-C1A26D46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979-01C7-4F20-AF11-7E324DB7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AE4-BAA7-4549-9B91-CDE8435D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345-8D43-4CBB-9A02-6CAC63FB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029-1BD0-47E8-9DCA-1D0F70F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373-6517-424F-9793-F0C7430B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7A1-08CA-4304-A9FB-1A1A4E23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68FA-CAC5-452C-AF1F-DE2962996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788652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e75b6"/>
                </a:solidFill>
                <a:latin typeface="Calibri"/>
                <a:ea typeface="Arial"/>
              </a:rPr>
              <a:t>Job vacancy pilot project – proof of concept for big data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via web scr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from administrative sources in different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doop in the clou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Microsoft Azzure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relational dat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015_RZS_BANNER"/>
          <p:cNvPicPr/>
          <p:nvPr/>
        </p:nvPicPr>
        <p:blipFill>
          <a:blip r:embed="rId1"/>
          <a:stretch/>
        </p:blipFill>
        <p:spPr>
          <a:xfrm>
            <a:off x="166680" y="357120"/>
            <a:ext cx="52689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08:12:04Z</dcterms:created>
  <dc:creator>.</dc:creator>
  <dc:description/>
  <dc:language>en-US</dc:language>
  <cp:lastModifiedBy>.</cp:lastModifiedBy>
  <dcterms:modified xsi:type="dcterms:W3CDTF">2015-11-19T08:13:40Z</dcterms:modified>
  <cp:revision>2</cp:revision>
  <dc:subject/>
  <dc:title>Job vacancy pilot project – proof of concept for big data </dc:title>
</cp:coreProperties>
</file>