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E333C-E9FA-450F-919D-865AA798E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CFE68-C3B1-4721-8D4B-4497C629F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AEFE2-A084-468D-AB1C-04F3CA76B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4ED1C-8BF0-407A-A762-70A5F27CC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E7E89-4BE1-493C-A23D-AD544D357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9FC67-D2F8-417D-84D7-D711072E1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D39C8-B152-4352-80C7-5D4ADC009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FC209-8050-4148-9AF4-32D033ACD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1A1DF-53BF-4AAD-8337-68E20E948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2E6DD-CB7A-418E-BA68-133D07A6A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946BC-94BA-4D5B-BB08-5D6C7090E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721FC-2B57-487D-BFA6-66318DB6C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02638-2D87-4B8C-975A-D54EB8727E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000" y="1844280"/>
            <a:ext cx="7886520" cy="74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e75b6"/>
                </a:solidFill>
                <a:latin typeface="Calibri"/>
                <a:ea typeface="Arial"/>
              </a:rPr>
              <a:t>Job vacancy pilot project – proof of concept for big data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2565000"/>
            <a:ext cx="8229600" cy="356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ata collected via web scrapp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ata collected from administrative sources in different forma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Hadoop in the clou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– Microsoft Azzure plat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utput relational data ba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2015_RZS_BANNER"/>
          <p:cNvPicPr/>
          <p:nvPr/>
        </p:nvPicPr>
        <p:blipFill>
          <a:blip r:embed="rId1"/>
          <a:stretch/>
        </p:blipFill>
        <p:spPr>
          <a:xfrm>
            <a:off x="166680" y="357120"/>
            <a:ext cx="5268960" cy="92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08:12:04Z</dcterms:created>
  <dc:creator>.</dc:creator>
  <dc:description/>
  <dc:language>en-US</dc:language>
  <cp:lastModifiedBy>.</cp:lastModifiedBy>
  <dcterms:modified xsi:type="dcterms:W3CDTF">2015-11-19T08:13:40Z</dcterms:modified>
  <cp:revision>2</cp:revision>
  <dc:subject/>
  <dc:title>Job vacancy pilot project – proof of concept for big data </dc:title>
</cp:coreProperties>
</file>