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CB7-53DF-4032-8A32-49493B23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BF0-F4A6-4456-91B7-8E9D12FD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17A-2BED-44CF-8EBA-4A4D2936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257-68FF-4801-9CA2-49B253C8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31C-2C05-4BC6-8AC5-AE2CC41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E39-887C-4BB0-86BD-AD795243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A1B-0172-4BFB-B70F-2B05CE4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C50-4783-4DB9-AE6E-1053DF45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950-092D-40C6-B3C2-E1A1D19A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A0F-A762-4E54-B353-E43D259B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296-CA01-4EFF-ACBD-F343E31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4C1-6C7E-4938-AE9E-B8179CD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924-E394-4773-BA58-A706DF522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788652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e75b6"/>
                </a:solidFill>
                <a:latin typeface="Calibri"/>
                <a:ea typeface="Arial"/>
              </a:rPr>
              <a:t>Job vacancy pilot project – proof of concept for big dat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via web sc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from administrative sources in different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doop in the clou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icrosoft Azzur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relational dat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015_RZS_BANNER"/>
          <p:cNvPicPr/>
          <p:nvPr/>
        </p:nvPicPr>
        <p:blipFill>
          <a:blip r:embed="rId1"/>
          <a:stretch/>
        </p:blipFill>
        <p:spPr>
          <a:xfrm>
            <a:off x="166680" y="357120"/>
            <a:ext cx="52689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08:12:04Z</dcterms:created>
  <dc:creator>.</dc:creator>
  <dc:description/>
  <dc:language>en-US</dc:language>
  <cp:lastModifiedBy>.</cp:lastModifiedBy>
  <dcterms:modified xsi:type="dcterms:W3CDTF">2015-11-19T08:13:40Z</dcterms:modified>
  <cp:revision>2</cp:revision>
  <dc:subject/>
  <dc:title>Job vacancy pilot project – proof of concept for big data </dc:title>
</cp:coreProperties>
</file>