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C912-7C38-429F-9E6C-04D31436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D1AB-7EE4-45A3-B489-CD8909D7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8EA4-72D9-4C4C-9759-DFFBAD81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BAC6-9BE4-4AF9-955F-3C899623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3C54-B4BF-4440-971F-56281FFC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4F2B-600F-4365-BB98-CA789BED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C718-54E9-43EE-AF28-FC144FD5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6978-28A3-40BD-B7EA-88FCBC3D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55C8-D45F-4677-82BE-A8AF2EA5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D931-00EF-4E40-831F-BDADDB25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D1B4-FDC1-4787-8BAA-6995707E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CCDB-7B4D-414F-B2B9-7CBB1C26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C9BE-771B-4F07-B3D9-70F6AF49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B07C-6DFD-4E2C-9C38-4B3DB300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EE38-0DA1-4A62-A25C-1E410371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4C11-09C9-4845-AB0B-BA02466E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F21E-6B67-444B-89D9-099C02FB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9D74D-5BDA-44CF-9C77-06EB04CC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1D9A1-DF2F-4259-A92D-6981632D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EE345-10FF-4991-B9B5-BF847296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2E913-4A20-420D-8915-3F898998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2EC28-6823-4A8A-904E-039F62EE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07EC-8729-4BE8-B7C3-F69E28F5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0FF35-62DA-44F3-98D5-DAC00904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EDC3A-9F27-41E2-AE6A-98ED7517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7B53D-C1D4-49C2-9629-45B55BA5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841D4-6CEF-486C-8B96-C352D4CA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B6C0C-8659-4BDE-BF62-B1D522C9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D6630-2A6C-4752-B560-D342D16A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4F9C1-1297-4E6A-9E6A-0AD05A62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FC383-EA47-4B58-98EF-D6EB6C52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C4ADD-9F08-431D-9255-54216C67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5BC11-8820-40D6-B5C7-3B6C1AD3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3AB-46B9-483A-94A8-FF92A6DD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10E04-0689-4BD3-8E08-C1850CF7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CFCB8-1E07-452B-9B68-C9CB5D86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9F7B3-45A7-44E6-972B-AC26FFB6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F35EF-BDEA-4E23-8275-25A0AAB4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4D96A-EC8C-42DE-BA78-3BF83E12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8FFC0-5EDE-4950-AD70-657B7333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CC957-A092-4B8C-A92F-F3D3F504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BD6EC-6F8F-4A30-A4A6-B6DCD7E8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8998E-3C6F-4173-B41C-77861141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7C218-14A0-4BAE-B8F0-1C6B564C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739-2649-401C-AF39-99E83439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D4042-8D51-4AFF-ABCE-AE00A9E9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05A2E-0141-41FB-A13C-C52734CB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0C26A-88AF-4BC5-A25D-BA48AE00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93BF1-FCE7-4EDF-A7FB-33EBF335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B55BE-DE4E-4696-9C30-CD440F2C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DA5D0-4BBD-485B-A511-B81267F8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3D5A9-99D4-4F47-AD6A-899A4449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649E4-1EA2-4548-A2A3-6335E40E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8EF1A-D447-4243-8FC6-0AE72DF2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110CF-8D09-4A79-A780-44FAA048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D6B1-A1D2-4B71-8354-FEA1938C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CF414-0E68-44C6-8D92-7AE974F0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5F047-83CC-4EF0-A639-140306BF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D19EB-060B-4F10-AB3D-31E98855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7618C-C52F-4E1A-B90B-036230C5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B7B3E-F2F8-40DB-BB24-5330345C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1BD11-A02E-423F-AC0A-E8A030FD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D6C49-0794-4934-9659-B952550B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82FCC-EEF2-47D8-822B-682544A5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41EB4-538B-41F5-8697-37E5CBC9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9040E-E746-4088-BA15-8360CF2E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D8C2-BF4D-4009-ACEA-C8CB88E6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90D70-17FA-4218-876A-3A065977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85862-4B17-4601-AE04-FB041602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C0B22-C04E-4CBE-9E68-BE71CDA1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95949-7A1A-4C71-89DA-71B974C9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02345-DA01-4E30-A135-89B08E68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05701-7BEA-45F6-BFB8-622E55B7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33231-AEEF-4F4E-A0AD-89462F31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F75FA-A52B-426D-99CB-E02CD9A4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CB65F-406B-4449-A8D2-5C5CF2D0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3634F-718B-461B-9CDD-B3D49C89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42F5-8B88-4A15-9990-FD6D6A76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714E1-B7A9-472E-9845-A4A145FB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55636-AFA1-4206-BA5F-3C847D1C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F0C2C-B77D-45BF-9B76-F6AC7478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C900E-58FF-4B0F-AFCC-E49DA2E2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AEF63-B51B-4931-ABFE-46A3CCB8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9A078-D325-4264-ADB1-0B0A24A5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BFFEC-313C-46DD-B432-7DE186F3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25FD7-3591-478B-A885-1CB3B2DA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4F6A8-5132-40EA-8D03-E812A483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B04F1-D270-44AC-AE66-43796B72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BFD4-B31D-42B9-8CBC-CB0B1CAA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E0A80-B01B-4E3A-B44A-BAEF9928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59DE3-1C7A-4873-95B5-34DF30B0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3DD8E-3830-4924-BDB4-A0CFEE7A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89317-64A9-4DC5-827A-0CC34C90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1A09C-ABC5-49AE-B6A2-B1BDCA41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1D6E8-1957-4437-97BC-0637CB64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58E32-49B9-4260-A98E-C1006A23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c0d3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ójkąt prostokątny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Łącznik prosty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8F08-3E5D-45A8-87E2-E818CEA3E1CC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2C59-E1E7-44A5-8AF8-A1B7F357CF08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ójkąt prostokątny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d7291"/>
              </a:gs>
              <a:gs pos="50000">
                <a:srgbClr val="96c0e4"/>
              </a:gs>
              <a:gs pos="100000">
                <a:srgbClr val="4d7291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Dowolny kształt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c0d3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Dowolny kształt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Dowolny kształt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Dowolny kształt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Łącznik prosty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D650-FE5E-4A18-AE2E-A9BCCF39F52C}" type="datetime">
              <a:rPr b="0" lang="pl-PL" sz="1000" spc="-1" strike="noStrike">
                <a:solidFill>
                  <a:srgbClr val="ffffff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ff3f7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ff3f7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382F-A744-4118-BF7A-EDECF4DC474C}" type="slidenum">
              <a:rPr b="0" lang="pl-P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c0d3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ag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f91ad"/>
              </a:gs>
              <a:gs pos="100000">
                <a:srgbClr val="aecbe5"/>
              </a:gs>
            </a:gsLst>
            <a:lin ang="16200000"/>
          </a:gradFill>
          <a:ln cap="rnd" w="3240">
            <a:solidFill>
              <a:srgbClr val="6b859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ag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f91ad"/>
              </a:gs>
              <a:gs pos="100000">
                <a:srgbClr val="aecbe5"/>
              </a:gs>
            </a:gsLst>
            <a:lin ang="16200000"/>
          </a:gradFill>
          <a:ln cap="rnd" w="3240">
            <a:solidFill>
              <a:srgbClr val="6b859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bddc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bddc3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099E-D29C-4FD3-AE12-60962DB39B74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AA9E-7534-4E7F-9FE7-59A5222DECFE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c0d3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bddc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bddc3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89BE-5D6E-485A-81C5-A0779DCBE2EF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3236-37BC-4165-9FDB-FE153148EA05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C3FD-D2DC-4308-A8E9-504834543E9E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DCDB-EA0E-492D-9483-1A7597A29720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c0d3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bddc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bddc3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AE7A-0D13-4ADC-BA41-D307CDEFBFA1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5762-5206-4505-A0CC-33355319AD3E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75f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75f55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65C6-E329-4737-AEDF-6AB852A6490A}" type="datetime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7104-00AD-4BF2-A406-93DE814ED880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owolny kształt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c0d3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owolny kształt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ójkąt prostokątny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ójkąt prostokątny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Łącznik prosty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ag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f91ad"/>
              </a:gs>
              <a:gs pos="100000">
                <a:srgbClr val="aecbe5"/>
              </a:gs>
            </a:gsLst>
            <a:lin ang="16200000"/>
          </a:gradFill>
          <a:ln cap="rnd" w="3240">
            <a:solidFill>
              <a:srgbClr val="6b859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ag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f91ad"/>
              </a:gs>
              <a:gs pos="100000">
                <a:srgbClr val="aecbe5"/>
              </a:gs>
            </a:gsLst>
            <a:lin ang="16200000"/>
          </a:gradFill>
          <a:ln cap="rnd" w="3240">
            <a:solidFill>
              <a:srgbClr val="6b859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bddc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bddc3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4b6d2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6A82-7775-4FAC-84BC-FD0C3475D16F}" type="datetime">
              <a:rPr b="0" lang="pl-PL" sz="1000" spc="-1" strike="noStrike">
                <a:solidFill>
                  <a:srgbClr val="ffffff"/>
                </a:solidFill>
                <a:latin typeface="Lucida Sans Unicode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0D62-2203-4214-8003-1FA41028F5DA}" type="slidenum">
              <a:rPr b="0" lang="pl-P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Symbol zastępczy zawartości 6" descr=""/>
          <p:cNvPicPr/>
          <p:nvPr/>
        </p:nvPicPr>
        <p:blipFill>
          <a:blip r:embed="rId1"/>
          <a:stretch/>
        </p:blipFill>
        <p:spPr>
          <a:xfrm>
            <a:off x="414360" y="974880"/>
            <a:ext cx="8510400" cy="5035320"/>
          </a:xfrm>
          <a:prstGeom prst="rect">
            <a:avLst/>
          </a:prstGeom>
          <a:ln w="0">
            <a:noFill/>
          </a:ln>
        </p:spPr>
      </p:pic>
      <p:pic>
        <p:nvPicPr>
          <p:cNvPr id="371" name="Tytuł 2" descr=""/>
          <p:cNvPicPr/>
          <p:nvPr/>
        </p:nvPicPr>
        <p:blipFill>
          <a:blip r:embed="rId2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  <p:sp>
        <p:nvSpPr>
          <p:cNvPr id="372" name="Symbol zastępczy numeru slajdu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E6B4-57F2-4504-8C45-713C140A8722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ymbol zastępczy stopki 4"/>
          <p:cNvSpPr/>
          <p:nvPr/>
        </p:nvSpPr>
        <p:spPr>
          <a:xfrm>
            <a:off x="4379760" y="6408720"/>
            <a:ext cx="264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Haga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, 2015 Workshop on the </a:t>
            </a: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Modernisation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Symbol zastępczy zawartości 3" descr=""/>
          <p:cNvPicPr/>
          <p:nvPr/>
        </p:nvPicPr>
        <p:blipFill>
          <a:blip r:embed="rId1"/>
          <a:stretch/>
        </p:blipFill>
        <p:spPr>
          <a:xfrm>
            <a:off x="426960" y="950760"/>
            <a:ext cx="8296200" cy="5089680"/>
          </a:xfrm>
          <a:prstGeom prst="rect">
            <a:avLst/>
          </a:prstGeom>
          <a:ln w="0">
            <a:noFill/>
          </a:ln>
        </p:spPr>
      </p:pic>
      <p:pic>
        <p:nvPicPr>
          <p:cNvPr id="375" name="Tytuł 2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42560" cy="1274760"/>
          </a:xfrm>
          <a:prstGeom prst="rect">
            <a:avLst/>
          </a:prstGeom>
          <a:ln w="0">
            <a:noFill/>
          </a:ln>
        </p:spPr>
      </p:pic>
      <p:sp>
        <p:nvSpPr>
          <p:cNvPr id="376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2641-0909-4626-9961-D10DDF721708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ymbol zastępczy stopki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Symbol zastępczy zawartości 3" descr=""/>
          <p:cNvPicPr/>
          <p:nvPr/>
        </p:nvPicPr>
        <p:blipFill>
          <a:blip r:embed="rId1"/>
          <a:stretch/>
        </p:blipFill>
        <p:spPr>
          <a:xfrm>
            <a:off x="450720" y="890640"/>
            <a:ext cx="8242560" cy="5149800"/>
          </a:xfrm>
          <a:prstGeom prst="rect">
            <a:avLst/>
          </a:prstGeom>
          <a:ln w="0">
            <a:noFill/>
          </a:ln>
        </p:spPr>
      </p:pic>
      <p:pic>
        <p:nvPicPr>
          <p:cNvPr id="379" name="Tytuł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6251-0D32-4B85-87E0-141984581B0A}" type="slidenum"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ymbol zastępczy stopki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Haga, 2015 Workshop on the Modernisation of Official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2:29:27Z</dcterms:created>
  <dc:creator>Długosz Anna</dc:creator>
  <dc:description/>
  <dc:language>en-US</dc:language>
  <cp:lastModifiedBy>Długosz Anna</cp:lastModifiedBy>
  <dcterms:modified xsi:type="dcterms:W3CDTF">2015-11-18T14:12:56Z</dcterms:modified>
  <cp:revision>15</cp:revision>
  <dc:subject/>
  <dc:title>Benefits of efective &amp; productive using of administrative data for statistical purpose</dc:title>
</cp:coreProperties>
</file>