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24A-121D-41E7-BC50-3EE86034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5FF-2967-4FD0-9DB2-A1FA568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C05-6EDA-4304-AC70-DFCBF81D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023-7017-4F78-A170-FEB0EDCA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2CA0-2CD9-401C-BB99-1E93F01A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215E-1825-4687-ACE2-6EA703B7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F248-26E1-481F-848C-719EF9D5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F8AB-8243-4E42-908E-4AB7F04F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C40-79EA-4042-9022-DC4D8169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4AF4-E8F3-4506-B3E2-9755386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319-C4C0-4951-9BD2-849B65F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146-B675-4D88-87A6-9E687F19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FF72-7E28-4F07-ABEA-12D2F91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DD64-B046-44B2-B79F-D333A258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2474-49BC-4666-9EDD-BA128F74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23A3-C202-432B-BE26-48189694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462-364E-407B-81D1-CF018D47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1131-5370-4929-9A5B-88C0C5C0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A0E2-318D-4316-98D1-1082194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E7B4-89BA-440C-8085-1FD8EC3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6F0A-DCA1-4C27-BE2F-437D9860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E500-290E-4BBD-BACB-405B904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E35-BD1A-4805-9105-061B0CFB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29F9-FDC7-411D-AE09-F58EFCA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0BAF-F107-47DE-93F0-DFB8230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7BF4-6E6E-4C77-9AF2-5C29933C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76363-D4B8-4AB1-B06E-F53F5BF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D7D9-B0AD-4564-9CAD-C5223887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9CC89-9A10-40A8-837E-F293F83A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9410-2A42-4487-BE82-62BDAF73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A3E4-0A1B-41B7-96D8-01680586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3352-C419-4A5C-9A77-47D285A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94229-3390-4288-83C3-BF83F47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E18-2F4A-4F71-A7D0-F799FC0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671F-8CE6-4471-9674-01E5C84E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8820B-157C-4676-A55D-F720D541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0A46A-B19C-4A65-953B-C347679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7782-C6AA-469D-854A-B3E034D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A96B-D6A7-4E5E-B190-6161AE50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DFFD5-10BF-47B2-B69B-0DCA8C80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A509-2BED-4DE8-ABA9-08515C28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D17C6-70B9-47A2-BFE8-2CB11358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2CACB-FBEE-4074-B5B2-4D8DFC84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FFEA-9A7F-452C-A1BF-3D50C3D1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907-F6A4-4A87-92FE-A49598DE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47795-DD8A-4494-9655-BA0773D6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2D8C-0D81-4AD9-9C57-F1400BA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0FE0-D8F5-44AD-B67C-AD5C9280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1B4F-DA76-41DA-97FD-02BB8E4A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C2092-0883-4858-BC03-312523C3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CB124-A799-4EB3-82A8-AF94A9E6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1F3C-EAC6-45CB-9B62-5511D0A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FB23-2CFF-475B-954C-8041BAD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12AD-CB71-493B-9F75-C2233F31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DA49-A9DE-4A8E-9366-4C074ADD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207-319D-4496-B0C5-9FCCEDF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08DDF-ED98-425E-B1B7-D295DE5B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381E-7316-4BC3-A2C6-F0C3F909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00BD9-111C-4FB3-8E25-76B3D14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40C6-D7D8-4D5E-8AE9-6CE6F013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2EBB2-8993-4B52-8B5E-C525084A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0FE1-A139-463F-A6D0-B3811B3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7106-34C9-4D15-BF95-D99C03B3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79FD-0A52-4A3D-9924-46346D37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5687E-81D3-4717-BBA8-EEF54E7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E65C-892B-4504-9529-040E2A2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957-A336-44F7-8263-F0B84426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CE4EB-DA47-47FB-BAAC-1F0CD60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51313-A5A7-42AD-AEAF-F50718A1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26C46-5923-4291-8A12-0275636B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96EE4-3A3D-4517-96AD-42BCB590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1EC4-02DF-4801-8248-FB6BCD4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3F25F-4EC4-4B0C-82B5-B662643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6CAD1-E085-4321-92C7-7F6BEC2F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D8E0-D8AB-4D64-8F6B-44E32AD5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B448-2C8B-41FF-94FA-9544DE3A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A047-4429-4C67-9D58-AC04B0D3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730-8B37-4100-BEA0-922E35D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8916-906D-4DA9-8097-65B9BA1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3AEBA-A8B0-4A29-B0F3-8A5118FE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E419D-7FF9-43AD-A470-CA94CCD2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D2706-F7F6-4B1F-A854-E61072B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1F13D-BB84-4CD0-8A87-A56C26FB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AAF16-F52B-4D7C-BE7F-5A564144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2CDC-1386-4ADA-9DEF-5F5D326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DF76B-A5AC-4BC0-A468-F4BF5BA4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0D46E-B062-4141-9264-F6252348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159C-EFAA-4D43-BAAD-C15F2FA5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E1D-ACB5-4FD1-9C50-5A09C71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8754D-9449-4439-84DB-7A502C2F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358F-D05A-4611-B904-3BF20A2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C365-2710-4AF7-9B97-8084929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AD256-D552-4B8A-8258-AB4D58C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B9E01-336E-40EF-8832-4DBAA03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0C442-8970-4357-9B2D-1E7632EE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2ABD-C48F-4DA3-943B-39EBA2AE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82CA-7B82-4720-BF25-D9C6FFC396EE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FAF8-3CB2-4D69-991D-F2C3DF1B99D3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d7291"/>
              </a:gs>
              <a:gs pos="50000">
                <a:srgbClr val="96c0e4"/>
              </a:gs>
              <a:gs pos="100000">
                <a:srgbClr val="4d729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c0d3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D2D2-53B0-4CFC-BB0A-90C7594679A5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f3f7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ff3f7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1562-F171-4708-B785-BE9358DA4B00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335-9DFC-4989-9920-036222CF36FE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92B2-0EDE-46B2-9BCB-078FAC437D02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23F-93F8-4EB6-8E4E-C532053F9B0A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492A-57E1-439C-A4DE-42528C3B798F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607B-7289-4CC7-A17C-82097835D427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6352-089B-44D6-BE83-CD0A2757A2E5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60FA-7FC7-467E-9D96-8A3FD4D7B888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913-337B-4D4C-8F99-5785347D9BD6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283-149B-46DA-AE20-A4B368071B82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C127-526F-4030-AE84-40E23D2FD774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3380-5175-4825-9B47-53BA99FD6A2A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E5E8-F4A7-4C09-8C44-356B79814B37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ymbol zastępczy zawartości 6" descr=""/>
          <p:cNvPicPr/>
          <p:nvPr/>
        </p:nvPicPr>
        <p:blipFill>
          <a:blip r:embed="rId1"/>
          <a:stretch/>
        </p:blipFill>
        <p:spPr>
          <a:xfrm>
            <a:off x="414360" y="974880"/>
            <a:ext cx="8510400" cy="5035320"/>
          </a:xfrm>
          <a:prstGeom prst="rect">
            <a:avLst/>
          </a:prstGeom>
          <a:ln w="0">
            <a:noFill/>
          </a:ln>
        </p:spPr>
      </p:pic>
      <p:pic>
        <p:nvPicPr>
          <p:cNvPr id="371" name="Tytuł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372" name="Symbol zastępczy numeru slajdu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1F7-DE10-437B-A450-0B6158D6BDA6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stopki 4"/>
          <p:cNvSpPr/>
          <p:nvPr/>
        </p:nvSpPr>
        <p:spPr>
          <a:xfrm>
            <a:off x="4379760" y="6408720"/>
            <a:ext cx="264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Haga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, 2015 Workshop on the 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Modernisation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8296200" cy="5089680"/>
          </a:xfrm>
          <a:prstGeom prst="rect">
            <a:avLst/>
          </a:prstGeom>
          <a:ln w="0">
            <a:noFill/>
          </a:ln>
        </p:spPr>
      </p:pic>
      <p:pic>
        <p:nvPicPr>
          <p:cNvPr id="375" name="Tytuł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D9B-F2B3-4D8A-9155-268BC83C1803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ymbol zastępczy stopki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5149800"/>
          </a:xfrm>
          <a:prstGeom prst="rect">
            <a:avLst/>
          </a:prstGeom>
          <a:ln w="0">
            <a:noFill/>
          </a:ln>
        </p:spPr>
      </p:pic>
      <p:pic>
        <p:nvPicPr>
          <p:cNvPr id="379" name="Tytuł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364C-9AF4-4185-8C4F-7633332D97E4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2:29:27Z</dcterms:created>
  <dc:creator>Długosz Anna</dc:creator>
  <dc:description/>
  <dc:language>en-US</dc:language>
  <cp:lastModifiedBy>Długosz Anna</cp:lastModifiedBy>
  <dcterms:modified xsi:type="dcterms:W3CDTF">2015-11-18T14:12:56Z</dcterms:modified>
  <cp:revision>15</cp:revision>
  <dc:subject/>
  <dc:title>Benefits of efective &amp; productive using of administrative data for statistical purpose</dc:title>
</cp:coreProperties>
</file>