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163-D1E4-4E59-94A0-CC6D3170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3847-684E-42E2-83D1-05930167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F7B1-6FA0-406A-9308-7E8E867B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1408-E1C2-4452-BC12-7B347F1D4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08AD-6127-4FB1-BA30-F136F47A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C1C3-3D9D-420B-88CF-3053C955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4AF1-99CA-42E8-AA04-BF18C154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2B6A-1B51-4A3A-BD33-5D30A0A2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2CD5-9199-443B-ADF2-E8EFBA9F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6D23-69DE-4886-B26A-9A71B99E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949D-FB4C-42A5-BBB3-19B88D59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6A6E-001F-4CA8-BA02-06239B0C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EB1E-60C2-4EB7-8149-2320A9A4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EA17-2F63-47E5-B7DD-A591B219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6FA1-2F79-43E8-8A17-C1AC0FAB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B6A7-2667-4E57-BE6B-B8B82C7A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8837-967E-4144-8B77-D4C0889F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10053-B983-4CCC-8EF2-EA213D76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D10EE-C8DE-454F-AF14-C5596B02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1BDBC-B3F8-403C-A791-9C6B3948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166B5-CAF7-49F2-9577-0B91F5C2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D0D6D-20BE-46A7-B2B0-0E768954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CDFA-E53E-4649-85CC-0C58A655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5F171-B69A-448A-BA40-A583D12C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12211-040D-4A46-89BC-8E7E24A5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5ED66-18A9-4704-9080-C0EAA28A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762A7-3C97-48E9-BC53-777EA978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7ED07-1295-46CC-98C8-98865BD2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CB31D-9E86-4894-8639-4666E9CC9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DA0D2-7D9A-4FD9-8C82-2097FECF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4360A-14BE-404A-AAD5-48E5117A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EC93E-D077-4D80-BD26-92A2AD3F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00EE7-C816-4F11-81C3-1BF8ABE1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794-3B45-4FF5-A8A8-9CF90657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658C7-21D8-4B9F-8CDE-7C50E553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7A3EF-0157-4CA1-BE60-D06E7DD6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F227D-81C7-496F-A334-5A276E66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45C6D-9455-4C72-99AA-243D7CCA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E7CDE-853F-42E3-9BAC-EA9577A2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1E857-6FF8-4E7A-B2AA-6932CAAD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3ED73-3670-487A-A4E7-8F9059E2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02874-7319-46BF-92F6-BB10009E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379EC-EC9D-486C-B8F0-7EE5041F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22B2A-DF42-422D-9929-3A316F0B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1618-E842-4464-BC2C-6063CB1E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78A2C-3729-425D-8E0A-F93B9FD0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5941C-9A5E-4B08-B734-1A422DEB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8B6C3-E87C-4ADC-9859-F07FF71C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95AF7-1058-4011-9740-7E8B2823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286C1-744E-4FA0-A0A2-7AD92556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6B4CA-0266-483E-ACD1-606A5D27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9B540-6645-4217-B2F7-51A937AE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4C2DD-36A9-476C-ABC6-063B4BCE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365DB-78E3-4FA0-9EA8-3F454FCD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AAF9B-ECEC-4069-8B7F-C5F7FB23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21C1-E197-4AA3-B9E3-43EBE172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FCA4F-702A-41EC-B12C-33254BB3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F45EF-2BFD-4FD8-910A-489B3E9F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BEA56-2F01-4B71-A9E4-0E88F0E3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E361A-303B-4581-BB87-00AE3F7A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0CD61-CC95-4B78-93CE-E5224A26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67AEE-7D50-4C57-9C2B-1162E1BB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2812C-6D56-4475-86E8-10CA77EB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539D9-DCD4-4E68-9DE4-EA5FBC29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98A52-8B87-4BC0-943E-B81266E4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29F0F-0338-4E07-9D52-E273C537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64D7-D387-458F-A96B-185C589C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49295-7EF7-4410-B942-01667C31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EBD66-B07E-4C60-903F-18F535D9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AFE13-9E4C-479E-B287-08EFF5C3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E4B28-E3C2-41A4-BE3F-FB581298D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EDBA9-45F9-48C9-88A1-98EB6721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7E63A-CF33-4669-A6E6-8A50DE10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88E6D-ED3D-41C4-B3D8-E1AC3DE4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DC779-7DB8-477A-B05E-1DB64BD4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80424-55CA-46BE-9A5F-1ACD4155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2EB26-C94A-4CCE-AA09-372AB7E1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DDF2-E677-4CA6-81D5-3AFFAEA0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94ADE-53F5-4DC4-8A44-EA053EE9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E0576-2A23-4EBC-B009-7B5E461A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C74A1-8F15-4EDF-8DF5-39794AC2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00F7A-7343-4A54-B5BC-1A33F701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3E991-E51F-4B66-8CEF-A82EC9E4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9FAB3-3BB6-47A6-89B6-F71C9044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89759-F7E8-46DC-9AD9-09477718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879FF-67B2-4E84-8939-37C92316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D7DDB-84F6-42A9-85EB-96971D6D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7E550-10F5-4FA6-9D21-9DC9AD94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92DA-57F1-43F2-8C63-648D6D78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6C610-B2AA-4A3E-AAFD-54E59273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1FEAC-28AB-497F-B17D-EC399A7C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315EA-B127-408E-845B-DB3A1932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5371D-488F-44F9-9B51-9CCE44F9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62600-BAFB-4D91-A865-BC821FAF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DDF3B-CDC8-4BB5-970F-C9F9BFF1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6F2C2-5732-4848-B9C0-92711E44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c0d3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ójkąt prostokątny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Łącznik prosty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FCED-630D-41DC-B585-F692D03BD192}" type="datetime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DC0A-9FF9-40B9-9B33-1D9755A5F926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ójkąt prostokątny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d7291"/>
              </a:gs>
              <a:gs pos="50000">
                <a:srgbClr val="96c0e4"/>
              </a:gs>
              <a:gs pos="100000">
                <a:srgbClr val="4d7291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Dowolny kształt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c0d3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Dowolny kształt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Dowolny kształt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Dowolny kształt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Łącznik prosty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D677-6C56-46A6-8FE7-B36E4609C379}" type="datetime">
              <a:rPr b="0" lang="pl-PL" sz="1000" spc="-1" strike="noStrike">
                <a:solidFill>
                  <a:srgbClr val="ffffff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ff3f7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ff3f7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FD71-5B6D-4C78-81D9-C48CB2E77DE6}" type="slidenum">
              <a:rPr b="0" lang="pl-P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c0d3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ag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f91ad"/>
              </a:gs>
              <a:gs pos="100000">
                <a:srgbClr val="aecbe5"/>
              </a:gs>
            </a:gsLst>
            <a:lin ang="16200000"/>
          </a:gradFill>
          <a:ln cap="rnd" w="3240">
            <a:solidFill>
              <a:srgbClr val="6b859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ag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f91ad"/>
              </a:gs>
              <a:gs pos="100000">
                <a:srgbClr val="aecbe5"/>
              </a:gs>
            </a:gsLst>
            <a:lin ang="16200000"/>
          </a:gradFill>
          <a:ln cap="rnd" w="3240">
            <a:solidFill>
              <a:srgbClr val="6b859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bddc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bddc3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1934-0754-4A51-A95C-F6605B3E057F}" type="datetime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6101-62B1-4535-B53A-4925A4B670B2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c0d3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bddc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bddc3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2B5F-211C-4C60-8CC9-7F7A7AAC7DEB}" type="datetime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FD44-43F9-44C3-A37F-3F697E21372C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B3C4-AA93-4AB1-9D37-E1794CD7D311}" type="datetime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2C99-4D6B-4DC8-B86C-B45C0941D470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c0d3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bddc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bddc3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CE18-862B-4AB6-97F2-0B4201A1973C}" type="datetime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16E9-9A20-4818-84D0-1778F8E237F8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EA70-B61A-4784-AA81-6007A5BB358E}" type="datetime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418E-F252-45DD-A2CF-7B6E2F08AD05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owolny kształt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c0d3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owolny kształt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ójkąt prostokątny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ójkąt prostokątny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Łącznik prosty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ag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f91ad"/>
              </a:gs>
              <a:gs pos="100000">
                <a:srgbClr val="aecbe5"/>
              </a:gs>
            </a:gsLst>
            <a:lin ang="16200000"/>
          </a:gradFill>
          <a:ln cap="rnd" w="3240">
            <a:solidFill>
              <a:srgbClr val="6b859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ag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f91ad"/>
              </a:gs>
              <a:gs pos="100000">
                <a:srgbClr val="aecbe5"/>
              </a:gs>
            </a:gsLst>
            <a:lin ang="16200000"/>
          </a:gradFill>
          <a:ln cap="rnd" w="3240">
            <a:solidFill>
              <a:srgbClr val="6b859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bddc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bddc3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C1CA-CE65-4D94-BFEB-6A3BB70FD5C7}" type="datetime">
              <a:rPr b="0" lang="pl-PL" sz="1000" spc="-1" strike="noStrike">
                <a:solidFill>
                  <a:srgbClr val="ffffff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A9A0-DA98-4E41-96EA-6D43EF3137F5}" type="slidenum">
              <a:rPr b="0" lang="pl-P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Symbol zastępczy zawartości 6" descr=""/>
          <p:cNvPicPr/>
          <p:nvPr/>
        </p:nvPicPr>
        <p:blipFill>
          <a:blip r:embed="rId1"/>
          <a:stretch/>
        </p:blipFill>
        <p:spPr>
          <a:xfrm>
            <a:off x="414360" y="974880"/>
            <a:ext cx="8510400" cy="5035320"/>
          </a:xfrm>
          <a:prstGeom prst="rect">
            <a:avLst/>
          </a:prstGeom>
          <a:ln w="0">
            <a:noFill/>
          </a:ln>
        </p:spPr>
      </p:pic>
      <p:pic>
        <p:nvPicPr>
          <p:cNvPr id="371" name="Tytuł 2" descr=""/>
          <p:cNvPicPr/>
          <p:nvPr/>
        </p:nvPicPr>
        <p:blipFill>
          <a:blip r:embed="rId2"/>
          <a:stretch/>
        </p:blipFill>
        <p:spPr>
          <a:xfrm>
            <a:off x="450720" y="219240"/>
            <a:ext cx="8242560" cy="1207800"/>
          </a:xfrm>
          <a:prstGeom prst="rect">
            <a:avLst/>
          </a:prstGeom>
          <a:ln w="0">
            <a:noFill/>
          </a:ln>
        </p:spPr>
      </p:pic>
      <p:sp>
        <p:nvSpPr>
          <p:cNvPr id="372" name="Symbol zastępczy numeru slajdu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A40F-69AD-4DB9-A0BD-B7A0311CF722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ymbol zastępczy stopki 4"/>
          <p:cNvSpPr/>
          <p:nvPr/>
        </p:nvSpPr>
        <p:spPr>
          <a:xfrm>
            <a:off x="4379760" y="6408720"/>
            <a:ext cx="2640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Haga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, 2015 Workshop on the </a:t>
            </a: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Modernisation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Symbol zastępczy zawartości 3" descr=""/>
          <p:cNvPicPr/>
          <p:nvPr/>
        </p:nvPicPr>
        <p:blipFill>
          <a:blip r:embed="rId1"/>
          <a:stretch/>
        </p:blipFill>
        <p:spPr>
          <a:xfrm>
            <a:off x="426960" y="950760"/>
            <a:ext cx="8296200" cy="5089680"/>
          </a:xfrm>
          <a:prstGeom prst="rect">
            <a:avLst/>
          </a:prstGeom>
          <a:ln w="0">
            <a:noFill/>
          </a:ln>
        </p:spPr>
      </p:pic>
      <p:pic>
        <p:nvPicPr>
          <p:cNvPr id="375" name="Tytuł 2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42560" cy="1274760"/>
          </a:xfrm>
          <a:prstGeom prst="rect">
            <a:avLst/>
          </a:prstGeom>
          <a:ln w="0">
            <a:noFill/>
          </a:ln>
        </p:spPr>
      </p:pic>
      <p:sp>
        <p:nvSpPr>
          <p:cNvPr id="376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0057-BE92-4F7A-837B-66EBE8C675DE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ymbol zastępczy stopki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Symbol zastępczy zawartości 3" descr=""/>
          <p:cNvPicPr/>
          <p:nvPr/>
        </p:nvPicPr>
        <p:blipFill>
          <a:blip r:embed="rId1"/>
          <a:stretch/>
        </p:blipFill>
        <p:spPr>
          <a:xfrm>
            <a:off x="450720" y="890640"/>
            <a:ext cx="8242560" cy="5149800"/>
          </a:xfrm>
          <a:prstGeom prst="rect">
            <a:avLst/>
          </a:prstGeom>
          <a:ln w="0">
            <a:noFill/>
          </a:ln>
        </p:spPr>
      </p:pic>
      <p:pic>
        <p:nvPicPr>
          <p:cNvPr id="379" name="Tytuł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0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ADDE-7748-47C5-B5F1-CD407E51FF1C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ymbol zastępczy stopki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2:29:27Z</dcterms:created>
  <dc:creator>Długosz Anna</dc:creator>
  <dc:description/>
  <dc:language>en-US</dc:language>
  <cp:lastModifiedBy>Długosz Anna</cp:lastModifiedBy>
  <dcterms:modified xsi:type="dcterms:W3CDTF">2015-11-18T14:12:56Z</dcterms:modified>
  <cp:revision>15</cp:revision>
  <dc:subject/>
  <dc:title>Benefits of efective &amp; productive using of administrative data for statistical purpose</dc:title>
</cp:coreProperties>
</file>